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FD2-5F12-4B4D-AA7D-7F7EF7A6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D53-8F35-4141-A39E-63D8B35C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BA5-6906-424E-AD43-915F3EC3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5C9-A83C-4E5D-93C4-F134D1D0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B07F-D880-4868-B8A5-C028FE34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9D77-7C7E-4437-B5BF-B11AF3E5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D0FE-727A-4FE2-AB63-C1A82ABB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DFB2-1353-40F4-B390-DC5F19CD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F780-3AC7-4FBB-9AFC-C922E38B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3A5A-4055-480E-92E5-E32747FF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7F56-8430-48A7-AF67-403E0965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5B9-B2FF-45B2-BB93-FF303ADE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CE27-95F4-4850-848C-1C49B0D7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D75-182C-41FD-83E4-9EF6E3C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4397-A3CF-4444-9C71-4828EB7D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6398-BCF4-4042-884B-A29B76FC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3AC9-580C-492D-8B1D-8FAF366B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098-0611-420D-8484-FC3582FB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681-3BA0-48F6-A556-B08FC7DD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257-7C5E-40B0-954C-191C4129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00D-873B-4201-BD66-00463266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8C4-6D98-4C3D-A7E8-104472B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B99-75ED-43E6-BB79-4B595CB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E36-F3B5-4B51-B183-A102C3C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9DB-880F-44A1-A15D-08B1FF8EF9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BF7-5C28-4A20-9AEE-63E055A37B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678204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66"/>
                </a:solidFill>
                <a:latin typeface="Times New Roman"/>
              </a:rPr>
              <a:t>Теория устойчивости лиофобных дисперсных систем ДЛФО (</a:t>
            </a:r>
            <a:r>
              <a:rPr b="0" lang="en-US" sz="4800" spc="-1" strike="noStrike">
                <a:solidFill>
                  <a:srgbClr val="330066"/>
                </a:solidFill>
                <a:latin typeface="Times New Roman"/>
              </a:rPr>
              <a:t>DLVO)</a:t>
            </a:r>
            <a:br>
              <a:rPr sz="4800"/>
            </a:b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1937 – 1941 гг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242280"/>
            <a:ext cx="4472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0066"/>
                </a:solidFill>
                <a:latin typeface="Times New Roman"/>
              </a:rPr>
              <a:t>Лектор: к.х.н., доцент каф. Ф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0066"/>
                </a:solidFill>
                <a:latin typeface="Times New Roman"/>
              </a:rPr>
              <a:t>Михеева Елена Валенти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DBBE-82A7-4E05-A6A5-9E2F1F83FF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87560" y="43056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Потенциальные кривые взаимодействия частиц</a:t>
            </a:r>
            <a:r>
              <a:rPr b="0" lang="en-US" sz="2400" spc="-1" strike="noStrike">
                <a:solidFill>
                  <a:srgbClr val="d8d8e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771640" y="1916280"/>
                <a:ext cx="367200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κh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π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24000" y="33670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заимодействие двух частиц дисперсной фазы характеризуют с помощью </a:t>
            </a:r>
            <a:r>
              <a:rPr b="1" i="1" lang="ru-RU" sz="2200" spc="-1" strike="noStrike">
                <a:solidFill>
                  <a:srgbClr val="330066"/>
                </a:solidFill>
                <a:latin typeface="Times New Roman"/>
              </a:rPr>
              <a:t>потенциальных кривы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зависимостей энергий взаимодействия между частицами от расстояния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ойчивость или коагуляция золей зависят от знака и значения общей потенциальной энергии взаимодействия частиц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84360" y="1052640"/>
                <a:ext cx="3960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ит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AAE-3A8C-4658-8BC8-30CC4FF3DA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956040" cy="5185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76720" y="3141720"/>
            <a:ext cx="558000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притяжения убывает с расстоянием по степенному зако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пр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→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тепенная функция асимптотически приближается к оси ордина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→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епенная функция асимптотически приближается к оси абсци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163080"/>
            <a:ext cx="48258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отталкивания  с расстоянием уменьшается по экспоненте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от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-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→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-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→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экспонента асимптотически приближается к оси абсци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38380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на малых и больших расстояния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200 н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обладает энергия притяж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онента убывает значительно быстрее, чем степенная функ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на средних расстояниях – энергия электростатического отталк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BD1-D920-4632-AAA8-697FCAB5A7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890960" cy="6340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708360" y="3488040"/>
            <a:ext cx="51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Arial"/>
                <a:ea typeface="Times New Roman"/>
              </a:rPr>
              <a:t>Область вторичного миниму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притяжение частиц через прослойку сред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ет коагуля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адки получаются рыхлыми и обратим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могут быть переведены в золь в результате пепт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Arial"/>
                <a:ea typeface="Times New Roman"/>
              </a:rPr>
              <a:t>П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тенциальный барь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 преобладанием сил отталки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система агрегативно устойчи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260280"/>
            <a:ext cx="439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Область первичного миниму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непосредственное слипание частиц. Осадки получаются плотными и необратимыми, (энергия притяжения намного превышает энергию отталкив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598-18C6-4029-9F28-775053ECA5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7760" y="28800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Формы результирующих кри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705240"/>
            <a:ext cx="7634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твета на вопрос: устойчива ли система, оценивается высота второго потенциального барьера и глубина вторичного минимума и сравнивается с энергией броуновского движения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16360" cy="252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140360" y="1888920"/>
            <a:ext cx="467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сли высота потенциального барь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 глубина вторичного миниму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 система агрегативно устойчивая, преобладают силы отталки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3600720" cy="2192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067280" y="4448160"/>
            <a:ext cx="4752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сли высота потенциального барь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глубина вторичного миниму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 на всех расстояниях преобладают силы притяжения, идет коагуляция (осадки пло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34C-8AEB-439A-AD0B-851786CEA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465800" cy="2949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24000" y="3971880"/>
            <a:ext cx="842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0066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сли глубина вторичного миниму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 не зависимо от высоты потенциального барьера возникает дальнее взаимодействие,  (частицы сближаются на расстоя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совершают дальнейшее броуновское движение как единое целое)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933-B237-4822-A303-917059F8F4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3560" y="187560"/>
            <a:ext cx="67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Закономерности коагуляции лиофобных зо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электроли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051200"/>
            <a:ext cx="741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е лиофобные золи агрегативно устойчивы, благодаря проявлению электростатического фактора стабилизации и коагулируют при введении в систему сравнительно небольших количеств любых электрол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ории ДЛФО введение электролита вызывает сжатие ДЭС, вследствие чего частицы могут подойти друг к другу на расстояния, при которых преобладают силы притяжен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456000" cy="2101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427640" y="3573360"/>
            <a:ext cx="4390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ории ДЛФО при концентрации электролита, равной порогу коагуляции потенциальная кривая дисперсной системы находится в области отрицательных значений. Максимум этой кривой, отвечающий нулевому потенциаль-ному барьеру, лежит на оси абсци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08C-DAE0-4FB4-8C75-6B08D73670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69120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чке касания потенциальной кривой оси абсцисс соответствуют два условия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2348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506920" y="2349360"/>
                <a:ext cx="3411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пр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от</m:t>
                              </m:r>
                            </m:sub>
                          </m:sSub>
                        </m:e>
                      </m:mr>
                    </m:m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5003640" y="328356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580000" y="3068640"/>
                <a:ext cx="1343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24000" y="4842360"/>
            <a:ext cx="84960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 условия отвечают некоторому критическому потенциалу ДЭС, при этом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и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риобретают критические значения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механизма сжатия ДЭС различают два вида коагуляции: концентрационную и нейтрализацио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7200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73C-7B68-4E0C-B26E-129FEA4C68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0680" y="18792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Концентрационная коа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640080"/>
            <a:ext cx="7561440" cy="21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0066"/>
                </a:solidFill>
                <a:latin typeface="Times New Roman"/>
              </a:rPr>
              <a:t>Концентрационная коагуля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характерна для сильно заряженных золей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gt; 100 мВ) при добавлении индифферентного электролита (золь гидроксида железа, полученного гидролизом хлорида желез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фферентные электролиты сжимают диффузную часть ДЭС,   снижают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но не изменяю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2720" y="2780280"/>
            <a:ext cx="26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итерии коагу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28560" y="3141720"/>
                <a:ext cx="6662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  <m:e/>
                      </m:mr>
                    </m:m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m>
                      <m:mr>
                        <m:e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T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кр</m:t>
                                      </m:r>
                                    </m:sub>
                                  </m:sSub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кр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Sup>
                          <m:e>
                            <m:r>
                              <m:t xml:space="preserve">π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m>
                      <m:m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8360" y="4149720"/>
                <a:ext cx="7777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U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</m:e>
                              <m:e/>
                            </m:mr>
                          </m:m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кр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T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кр</m:t>
                                      </m:r>
                                    </m:sub>
                                  </m:sSub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кр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Sup>
                          <m:e>
                            <m:r>
                              <m:t xml:space="preserve">π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892080" y="5083920"/>
            <a:ext cx="58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им уравнение (2) на уравнение (1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71640" y="5661000"/>
                <a:ext cx="129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774160" y="593460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140360" y="5734080"/>
                <a:ext cx="2376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E78-FEF9-45BE-96CC-B86644B2FF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50600" y="1738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ставим уравнение (3) в уравнение (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32000" y="692280"/>
                <a:ext cx="5545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T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кр</m:t>
                                      </m:r>
                                    </m:sub>
                                  </m:sSub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кр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κ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кр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838080" y="1889640"/>
            <a:ext cx="345096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несе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из лев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авнения направо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796000" y="1844640"/>
                <a:ext cx="26654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826920" y="2897640"/>
            <a:ext cx="40388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тавим вмес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го значение из теории Гуи-Чепм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156360" y="2852640"/>
                <a:ext cx="20160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кр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041120" y="4148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635280" y="3789360"/>
                <a:ext cx="4969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кр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ε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79280" y="4842720"/>
            <a:ext cx="842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несем все константы налево, 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к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право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476360" y="5300640"/>
                <a:ext cx="6121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482-837C-4668-8E37-BA186DA21C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3402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правой части уравнения константы, тогда запиш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140360" y="333360"/>
                <a:ext cx="32400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оns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bSup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95280" y="12672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зведем уравнение (4) в квадрат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356000" y="1341360"/>
                <a:ext cx="2087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оns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332000" y="2349360"/>
                <a:ext cx="223200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900000" y="2276640"/>
          <a:ext cx="2884680" cy="1008000"/>
        </p:xfrm>
        <a:graphic>
          <a:graphicData uri="http://schemas.openxmlformats.org/drawingml/2006/table">
            <a:tbl>
              <a:tblPr/>
              <a:tblGrid>
                <a:gridCol w="28846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4723920" y="2635920"/>
            <a:ext cx="37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шестой степени Деряги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78560" y="335664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оги коагуляции со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826920" y="3789360"/>
                <a:ext cx="7274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56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3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08400" y="4782240"/>
            <a:ext cx="70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агулирующая способность ионов электролитов соотнос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92360" y="5157720"/>
                <a:ext cx="5400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5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324000" y="59252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окинетический потенциал не входит в комплекс величин, определяющих устойчивость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FBD-DE4D-46F1-980C-42A8E483BA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332280"/>
            <a:ext cx="8353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Задачи те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628560" algn="just">
              <a:lnSpc>
                <a:spcPct val="100000"/>
              </a:lnSpc>
              <a:buClr>
                <a:srgbClr val="33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бъяснить механизм коагуля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628560" algn="just">
              <a:lnSpc>
                <a:spcPct val="100000"/>
              </a:lnSpc>
              <a:buClr>
                <a:srgbClr val="33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еоретически обосновать правило Шульце – Гард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628560" algn="just">
              <a:lnSpc>
                <a:spcPct val="100000"/>
              </a:lnSpc>
              <a:buClr>
                <a:srgbClr val="33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бъяснить связь между значением электрокинетического потенциала и устойчив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806560"/>
            <a:ext cx="8426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0066"/>
                </a:solidFill>
                <a:latin typeface="Times New Roman"/>
              </a:rPr>
              <a:t>Современная физическая теория устойчивости ДЛФО (Б.В.Дерягин, Л.Д.Ландау, Е.Фервей, Дж.Овербек) рассматривает процесс коагуляции как результат совместного действия Ван-дер-Ваальсовых сил притяжения и электростатических сил отталкивания между частиц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0066"/>
                </a:solidFill>
                <a:latin typeface="Times New Roman"/>
              </a:rPr>
              <a:t>В зависимости от баланса этих сил в тонкой прослойке жидкости между сближающимися частицами возникает «расклинивающее давл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0AA-C43A-46DF-AD3B-096A953CF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770480" y="-108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Нейтрализационная коа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416160"/>
            <a:ext cx="75610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йтрализационная коагуля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характерна для слабо заряженных золей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2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В) при добавлении неиндифферентного электролита (золь иодида сереб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индифферентные электролиты частично нейтрализую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что приводит к уменьшению не только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о и к уменьшению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также к сжатию ДЭС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2720" y="2780280"/>
            <a:ext cx="26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итерии коагу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92080" y="5083920"/>
            <a:ext cx="58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им уравнение (2) на уравнение (1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71640" y="5661000"/>
                <a:ext cx="129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2774160" y="593460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140360" y="5734080"/>
                <a:ext cx="2376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39640" y="3141720"/>
                <a:ext cx="6913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  <m:e/>
                      </m:mr>
                    </m:m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ε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b>
                        </m:sSub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Sup>
                          <m:e>
                            <m:r>
                              <m:t xml:space="preserve">π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39640" y="4149720"/>
                <a:ext cx="7704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  <m:r>
                                <m:t xml:space="preserve">(</m:t>
                              </m:r>
                              <m:r>
                                <m:t xml:space="preserve">h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/>
                      </m:mr>
                    </m:m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ε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Sup>
                          <m:e>
                            <m:r>
                              <m:t xml:space="preserve">π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F21-8A2F-4A76-A37F-6E2B3CBD64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50600" y="1738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ставим уравнение (3) в уравнение (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1818360"/>
            <a:ext cx="820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несем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и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левой части уравнения направо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364392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можно записа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27280" y="3500280"/>
                <a:ext cx="165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250920" y="47408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малых потенциалах коагуляция наступает при  определенном соотношении между электрическим потенциалом поверхности частицы и толщиной диффузной части ДЭС. Это условие устойчивости было эмпирически установлено Эйлерсом и Корфом в 1940 г, а затем теоретически обосновано Деряг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92720" y="39409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ерий Эйлерса - Кор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124000" y="3462480"/>
          <a:ext cx="2448000" cy="111888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47640" y="692280"/>
                <a:ext cx="5616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ε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κ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кр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40000" y="2349360"/>
                <a:ext cx="4248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3AC-84DC-4678-B5DA-92249D00C0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307080"/>
            <a:ext cx="432756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тавим в уравнение (5) вмес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го значение из теории Гуи-Чепм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73120" y="18439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2564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несем все константы налево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389480" y="2421000"/>
                <a:ext cx="37116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F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e>
                        </m:rad>
                      </m:num>
                      <m:den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39640" y="39326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правой части уравнения -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788000" y="3789360"/>
                <a:ext cx="28796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оns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e>
                        </m:rad>
                      </m:num>
                      <m:den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p>
                        </m:sSubSup>
                      </m:den>
                    </m:f>
                    <m:m>
                      <m:mr>
                        <m:e/>
                        <m:e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611280" y="52995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едем уравнени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в квадрат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16360" y="5157720"/>
                <a:ext cx="21607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оns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4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369040" y="333360"/>
                <a:ext cx="19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кр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643280" y="1413000"/>
                <a:ext cx="33847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кр</m:t>
                                    </m:r>
                                  </m:sub>
                                </m:sSub>
                              </m:sub>
                            </m:sSub>
                          </m:e>
                        </m:rad>
                      </m:num>
                      <m:den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р</m:t>
                                </m:r>
                              </m:sub>
                            </m:sSub>
                          </m:sup>
                        </m:sSubSup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17B-6FE5-4D64-A747-E742160AF9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635280" y="189000"/>
                <a:ext cx="23958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4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347" name=""/>
          <p:cNvGraphicFramePr/>
          <p:nvPr/>
        </p:nvGraphicFramePr>
        <p:xfrm>
          <a:off x="4500720" y="2565360"/>
          <a:ext cx="3958920" cy="1031760"/>
        </p:xfrm>
        <a:graphic>
          <a:graphicData uri="http://schemas.openxmlformats.org/drawingml/2006/table">
            <a:tbl>
              <a:tblPr/>
              <a:tblGrid>
                <a:gridCol w="395892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324000" y="1178280"/>
            <a:ext cx="748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е слабозаряженных золей значение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величине близко к значению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Тог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076720" y="2565360"/>
                <a:ext cx="2880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ζ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250920" y="3932640"/>
            <a:ext cx="857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е нейтрализационной коагуляции значение порога коагуляции обратно пропорционально заряду иона-коагулятора во второй степени. В данном случае порог коагуляции зависит от величины электрокинет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5299200"/>
            <a:ext cx="8713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альных системах одновременно могут идти оба механизма коагуляции, поэтому зависимо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ет быть промежуточ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расхождения также могут быть вызваны особыми явлениями при коаг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2521080" cy="175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093-2055-47E8-86C6-F45236A6CA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707560" y="169920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Значение теории ДЛФО</a:t>
            </a:r>
            <a:r>
              <a:rPr b="0" lang="en-US" sz="1800" spc="-1" strike="noStrike">
                <a:solidFill>
                  <a:srgbClr val="33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2333160"/>
            <a:ext cx="8569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Теория ДЛФО объяснила механизм коагуля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соответствии с теорией ДЛФО введение электролита в дисперсную систему вызывает сжатие двойного электрического слоя на поверхности частиц, вследствие чего частицы могут подойти друг к другу на расстояния, при которых преобладают силы притя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Теория ДЛФО теоретически обосновала правило Шульце – Гарди, связала значение порога коагуляции электролита с величиной заряда иона - коагулято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Теория ДЛФО объяснила связь между значением электрокинетического потенциала и устойчив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8BB-A902-4DDF-8DC2-E56350203B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199600" y="18792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Особые явления при коаг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1200" y="676800"/>
            <a:ext cx="40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Times New Roman"/>
              </a:rPr>
              <a:t>Явление неправильных ряд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2132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явление объясняется тем, что многовалентные ионы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перезаряжают коллоидные частицы и переводят систему из неустойчивого состояния в устойчиво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112536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0066"/>
                </a:solidFill>
                <a:latin typeface="Times New Roman"/>
              </a:rPr>
              <a:t>Явление неправильных ряд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чередование зон устойчивости и неустойчивости при добавлении к золю индифферентного электролита, содержащего многозарядный и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4319640" cy="3354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076720" y="4615200"/>
            <a:ext cx="38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оны устойчивости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оны неустойчив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087-3D63-4693-8636-79FBB429B9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341080" y="1195920"/>
            <a:ext cx="458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Times New Roman"/>
              </a:rPr>
              <a:t>Коагуляция смесью электролитов</a:t>
            </a:r>
            <a:r>
              <a:rPr b="0" lang="en-US" sz="2200" spc="-1" strike="noStrike">
                <a:solidFill>
                  <a:srgbClr val="d8d8e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2131920"/>
            <a:ext cx="785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промышленных условиях коагуляцию проводят смесью электролитов. Коагулирующее действие смеси электролитов часто бывает неаддитив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смеси электролитов требуется больше, чем одного из них, то наблюдается </a:t>
            </a:r>
            <a:r>
              <a:rPr b="1" i="1" lang="en-US" sz="2000" spc="-1" strike="noStrike">
                <a:solidFill>
                  <a:srgbClr val="330066"/>
                </a:solidFill>
                <a:latin typeface="Times New Roman"/>
              </a:rPr>
              <a:t>антагонизм</a:t>
            </a: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олитов (электролиты мешают друг друг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смесь электролитов эффективнее одного электролита, то такое явление называется </a:t>
            </a:r>
            <a:r>
              <a:rPr b="1" i="1" lang="en-US" sz="2000" spc="-1" strike="noStrike">
                <a:solidFill>
                  <a:srgbClr val="330066"/>
                </a:solidFill>
                <a:latin typeface="Times New Roman"/>
              </a:rPr>
              <a:t>синергизмом</a:t>
            </a: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лектролитов (один электролит усиливает действие другого) – в смеси их требуется меньше, чем каждого в отд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нергизм электролитов широко используется на практике для коагуляции больших количеств дисперсн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C16-A7F8-4711-A681-E6ABB61D0C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95280" y="185400"/>
            <a:ext cx="734364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дним из вариантов коагуляции является </a:t>
            </a:r>
            <a:r>
              <a:rPr b="1" i="1" lang="en-US" sz="1900" spc="-1" strike="noStrike">
                <a:solidFill>
                  <a:srgbClr val="330066"/>
                </a:solidFill>
                <a:latin typeface="Times New Roman"/>
              </a:rPr>
              <a:t>процесс структурообразования</a:t>
            </a:r>
            <a:r>
              <a:rPr b="0" i="1" lang="en-US" sz="1900" spc="-1" strike="noStrike">
                <a:solidFill>
                  <a:srgbClr val="330066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330066"/>
                </a:solidFill>
                <a:latin typeface="Times New Roman"/>
              </a:rPr>
              <a:t>Структурообразовани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вариант коагуляции, протекающий при больших концентрациях дисперсной фазы с потерей системой агрегативной устойчив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ри этом система приобретает новые структурно – механические (реологические) свойства, определяющие практическое использование материа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К структурно – механическим свойствам ДС относятся: закономерности структурообразования, вязкость, упругость, пластичность и т.д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9280" y="3557160"/>
            <a:ext cx="864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0066"/>
                </a:solidFill>
                <a:latin typeface="Times New Roman"/>
              </a:rPr>
              <a:t>Классификация ДС по структурно – механическим свойства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0066"/>
                </a:solidFill>
                <a:latin typeface="Times New Roman"/>
              </a:rPr>
              <a:t>(типы структур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4327920"/>
            <a:ext cx="8497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0066"/>
                </a:solidFill>
                <a:latin typeface="Times New Roman"/>
              </a:rPr>
              <a:t>Коагуляционные структур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образуются за счет сцепления между частицами под действием сил В–д–В через прослойку дисперсионной среды (вторичный минимум потенциальной кривой взаимодействия частиц дисперсной фазы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истемы с такой структурой обладают вязкостью и пластичностью, а при внешнем воздействии способны восстанавливаться во време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 специфическим свойствам коагуляционных структур относятся: тиксотропия и синерези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0FA-71E0-4198-9F26-1F0ED46E4F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68360" y="763200"/>
            <a:ext cx="7488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0066"/>
                </a:solidFill>
                <a:latin typeface="Times New Roman"/>
              </a:rPr>
              <a:t>Тиксотропия</a:t>
            </a:r>
            <a:r>
              <a:rPr b="0" i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пособность системы восстанавливать структуру во времени после ее механического разрушения. Например, масляная краска благодаря быстрому структурообразованию не стекает с вертикальных стен, а быстро затверде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0066"/>
                </a:solidFill>
                <a:latin typeface="Times New Roman"/>
              </a:rPr>
              <a:t>Синерезис</a:t>
            </a:r>
            <a:r>
              <a:rPr b="0" lang="ru-RU" sz="2000" spc="-1" strike="noStrike">
                <a:solidFill>
                  <a:srgbClr val="d8d8e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амопроизвольное уменьшение размеров геля с одновременным выделением наружу дисперсионной среды, содержащейся в петлях г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 этого явления – увеличение числа контактов между частицами с течением времени при постоянной концентрации частиц. Синерезис в живых клетках – старен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е синерезиса обратимо: при увеличении влажности окружающей среды сухой гель поглощает жидкость и восстанавливает прежний объем. Явление, обратное синерезису называется набух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B27-1803-4E8A-8AA2-18A34DF480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79280" y="2203200"/>
            <a:ext cx="8137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d8d8ec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330066"/>
                </a:solidFill>
                <a:latin typeface="Times New Roman"/>
              </a:rPr>
              <a:t>Конденсационно – кристаллизационные структуры (ККС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бразуются не только за счет сил В-д-В, но и за счет химических сил между частицами с последующим их срастанием и образованием жесткой объемной структуры (первичный минимум потенциальной кривой взаимодействия частиц дисперсной фаз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 с ККС обладают значительной механической прочностью, не пластичны, не способны к синерезису и тиксотроп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32C-D073-4FCF-9A5D-10D86BBEDC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79160" y="25812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Расклинивающее</a:t>
            </a:r>
            <a:r>
              <a:rPr b="1" lang="en-US" sz="2800" spc="-1" strike="noStrike">
                <a:solidFill>
                  <a:srgbClr val="d8d8e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820800"/>
            <a:ext cx="7705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склинивающее давл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– избыточное давление, возникающее в межфазной прослойке жидкости при достаточном ее утоньш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76336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давление в межфазной прослойке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гидростатическое давление в окружающей среде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толщина межфазной прослой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400356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о преобладают силы отталкивания между частицами (система агрегативно устойчив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&lt; 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то преобладают силы притяжения (коагуляц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76720" y="1989000"/>
                <a:ext cx="2519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5B9-9C7F-4F70-8D91-7219342C20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1206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330066"/>
                </a:solidFill>
                <a:latin typeface="Times New Roman"/>
              </a:rPr>
              <a:t>Расклинивающее давл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работа, совершаемая при изменении толщины межфазной прослойки и приходящаяся на единицу площади поверхности перекрывания поверхностных слоев при услов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2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поверхностного сло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521080" cy="125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2519640" cy="1162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458028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 термодинамической точки зрения расклинивающее давление есть частная производная энергии Гиббса по толщине межфазной прослойки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492360" y="5373720"/>
                <a:ext cx="2664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80000" y="1989000"/>
                <a:ext cx="1726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8EC-783B-494D-BA3C-CD6C19482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85320"/>
            <a:ext cx="8713800" cy="39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66"/>
                </a:solidFill>
                <a:latin typeface="Times New Roman"/>
              </a:rPr>
              <a:t>Составляющие расклнивающе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0066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ярная составляюща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условлена силами притяжения   Ван–дер–Вальса, действующими между ядрами мице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0066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остатическая составляющая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озникает при перекрывании ДЭС мицелл, обусловлена электростатическими силами отталк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0066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сорбционная составляюща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а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озникает при перекрывании молекулярных адсорбционных слоев (адсорбция длинноцепочечных ПАВ, молекул  ВМ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0066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ная составляющая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с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условлена существованием особых слоев жидкости вблизи поверхности твердого тела (например, молекулы воды образуют упругие слои, которые препятствуют сближению частиц)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243240" y="3933720"/>
                <a:ext cx="373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дс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т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95280" y="4482000"/>
            <a:ext cx="83534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а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с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сят название </a:t>
            </a:r>
            <a:r>
              <a:rPr b="1" i="1" lang="ru-RU" sz="2000" spc="-1" strike="noStrike">
                <a:solidFill>
                  <a:srgbClr val="330066"/>
                </a:solidFill>
                <a:latin typeface="Times New Roman"/>
              </a:rPr>
              <a:t>адсорбционно-структурного барь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й имеет большое значение для устойчивости лиофильных  систем, эти составляющие в теории ДЛФО не рассматр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558864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лиофобных  сист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43280" y="5589720"/>
                <a:ext cx="1656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D4B-7D16-435B-AE93-0CFC70F6F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9960" y="25920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Расчет энергии электростатического отталкивания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182760" cy="403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48000" y="76392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считаем энергию отталкивания, возникающую при перекрывании ДЭС двух сближающихся мицел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716360" y="1844640"/>
                <a:ext cx="2376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059280" y="2490840"/>
            <a:ext cx="56894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ДЭС перекрылись (сблизились на расстоя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нет такого места, где бы значение потенциала было бы равно нулю (результирующая крив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ерекрывании ДЭС возникает избыточная концентрация ПИ, происходит отталкивание между сближающимися частицам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659640" y="5084640"/>
                <a:ext cx="187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  <m:r>
                          <m:t xml:space="preserve">ϕ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dϕ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708360" y="5084640"/>
                <a:ext cx="20876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т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31B-5012-435A-AD8A-5F79CD5781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307080"/>
            <a:ext cx="7489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слабозаряженных золе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25 мВ) энергия электростатического отталкивания рассчит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840" y="1818360"/>
            <a:ext cx="505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ильнозаряженных золей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100 мВ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0440" y="28519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общем случае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30640" y="2583000"/>
          <a:ext cx="3416400" cy="880560"/>
        </p:xfrm>
        <a:graphic>
          <a:graphicData uri="http://schemas.openxmlformats.org/drawingml/2006/table">
            <a:tbl>
              <a:tblPr/>
              <a:tblGrid>
                <a:gridCol w="341640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635280" y="2708280"/>
                <a:ext cx="2484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В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79280" y="3788280"/>
            <a:ext cx="878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отталкивания частиц уменьшается с увеличением расстояния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между ними по экспон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4000" y="486900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427640" y="4724280"/>
                <a:ext cx="273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00000" y="4581360"/>
                <a:ext cx="2448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24000" y="573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увеличении концентрации и заряда электролита и энергия отталкивания  уменьш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03640" y="1197000"/>
                <a:ext cx="3095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ε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κ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940360" y="1700280"/>
                <a:ext cx="2735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т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3C2-C9F9-48C0-9DC3-C77014E83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0960" y="259560"/>
            <a:ext cx="47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Расчет энергии притяже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555200"/>
            <a:ext cx="8640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тяжение между частицами обусловлено силами Ван-дер-Ваальса, включающие три составляющие: ориентационное, индукционное  и дисперсионное взаимодейств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иентационное и индукционное взаимодействия являются короткодействующими и составляют 5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50% от общей энергии молекулярного притяжения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 сил Ван-дер-Ваальса наиболее универсальным является дисперсионное взаимодейств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330066"/>
                </a:solidFill>
                <a:latin typeface="Times New Roman"/>
              </a:rPr>
              <a:t>Дисперсионное взаимодействие</a:t>
            </a:r>
            <a:r>
              <a:rPr b="0" lang="ru-RU" sz="2200" spc="-1" strike="noStrike">
                <a:solidFill>
                  <a:srgbClr val="33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71440" algn="just">
              <a:lnSpc>
                <a:spcPct val="100000"/>
              </a:lnSpc>
              <a:buClr>
                <a:srgbClr val="330066"/>
              </a:buClr>
              <a:buSzPct val="185000"/>
              <a:buFont typeface="Times New Roman"/>
              <a:buChar char="•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всеобщим (действует всегда, составляет примерно 50% в случае полярных молекул и 100% в случае неполярных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71440" algn="just">
              <a:lnSpc>
                <a:spcPct val="100000"/>
              </a:lnSpc>
              <a:buClr>
                <a:srgbClr val="330066"/>
              </a:buClr>
              <a:buSzPct val="185000"/>
              <a:buFont typeface="Times New Roman"/>
              <a:buChar char="•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ддитивны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71440" algn="just">
              <a:lnSpc>
                <a:spcPct val="100000"/>
              </a:lnSpc>
              <a:buClr>
                <a:srgbClr val="330066"/>
              </a:buClr>
              <a:buSzPct val="185000"/>
              <a:buFont typeface="Times New Roman"/>
              <a:buChar char="•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абоэкранируемым (взаимодействие двух молекул друг с другом не зависит от присутствия других молекул).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480456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57888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987640" y="836640"/>
                <a:ext cx="2448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и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87E-F8FC-40E2-A688-E0965FE3B2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981000"/>
            <a:ext cx="76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огласно теории ДЛФО, энергия притяжения с расстоя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ассчитывается по уравнени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411280" y="2276640"/>
          <a:ext cx="4038840" cy="10810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19640" y="2349360"/>
                <a:ext cx="2519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и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π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95280" y="3789360"/>
            <a:ext cx="842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*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0066"/>
                </a:solidFill>
                <a:latin typeface="Times New Roman"/>
              </a:rPr>
              <a:t>постоянная Гамак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учитывает природу частиц и диэлектрическую проницаемость среды, вычисляется из квантово-статистических расчетов, выражается в единицах энергии и имеет значение порядка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AF4-9890-4D4F-A09D-FFC2C1F22E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3:21:32Z</dcterms:created>
  <dc:creator>Admin</dc:creator>
  <dc:description/>
  <dc:language>en-US</dc:language>
  <cp:lastModifiedBy>Администратор</cp:lastModifiedBy>
  <dcterms:modified xsi:type="dcterms:W3CDTF">2011-06-23T14:18:57Z</dcterms:modified>
  <cp:revision>27</cp:revision>
  <dc:subject/>
  <dc:title>Слайд 1</dc:title>
</cp:coreProperties>
</file>