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582-C793-43C6-90B6-623D6AD6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A34-8BC7-462C-A0D9-89D6FEA0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76F-9DEC-4A56-B58E-E7F44248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1AE-77D3-4D49-968F-16AFEEBB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87E1-65B5-43AA-A2B6-1EF63F5D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CEEB-9AD8-458E-ADEF-68D79699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7292-CC4E-4133-80D1-F3DA44F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69C-A5D1-4710-864F-0CEA9EF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DFE4-DF57-4729-8B15-8A3613BD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0DEB-5D5E-4BEE-9DC3-989A2B01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FFEC-8386-4A57-A9D4-C7CED0B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8CF-734F-41FA-B9F8-8A2471F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5A7-223D-4308-BF71-786EA02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E796-78EA-44F4-84A8-786F86A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1EA7-9434-4F3B-B40F-46D52BA5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51E-C183-47A3-A14D-5500B9C4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A498-EC0F-4412-8A42-A2CC4CA3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78E-A405-4618-94C7-49A51D5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D21-68C4-4BAD-99B4-D2723FFE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BDB-82CD-43D5-9060-96589EB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5AC-AE60-43AB-A92D-7D2BC56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739-F72E-4F4E-9B3E-D03DA63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6E-701D-439C-B4A4-96C8ECA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22D-832C-4580-9F37-FDD7EA9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93A-1594-41C4-9A5F-DC7C04D31E0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1DD0-E994-408E-9A26-D5861C3D843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Times New Roman"/>
              </a:rPr>
              <a:t>Устойчивость и коагуляция лиофобных дисперсных систем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556080" y="4538520"/>
            <a:ext cx="44719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6666"/>
                </a:solidFill>
                <a:latin typeface="Times New Roman"/>
              </a:rPr>
              <a:t>Лектор: к.х.н., доцент каф. ФАХ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6666"/>
                </a:solidFill>
                <a:latin typeface="Times New Roman"/>
              </a:rPr>
              <a:t>Михеева Елена Валентиновн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899640"/>
            <a:ext cx="84960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Теория коагуляции полидисперсных золей Мюллер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астицы различных размеров коагулируются быстрее, чем частицы одинаковых размеров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агуляция преимущественно происходит при столкновении малых частиц с большими, играющих роль центров коагуляции (чем больше больших частиц, тем выше скорость коагуляции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агуляция носит автокаталитический характер (скорость коагуляции со временем увеличивается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орость коагуляции возрастает, если частицы имеют удлиненную форму (на поступательное движение частиц дисперсной фазы накладывается вращательное движение, увеличивающее вероятность столкновения частиц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EEE-E558-4D1F-9FB3-289FAB54E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247680"/>
            <a:ext cx="8497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Медленная коагуляция  (Н.А. Фукс, 1934 г.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 образованию агрегатов приводят не все соударения частиц дисперсной фазы, а только некоторая доля от общего числа соударений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132000" y="1628640"/>
                <a:ext cx="29275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π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P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24000" y="2492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нергетический барьер процесса коагуляции;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ерический множитель, учитывающего пространственное расположение частиц при столкновении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313000" y="3705120"/>
                <a:ext cx="4203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P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num>
                      <m:den>
                        <m:r>
                          <m:t xml:space="preserve">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479628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казатель агрегативной устойчивости дисперсной системы (коэффициент стабильности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8360" y="5659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788000" y="5661000"/>
                <a:ext cx="1800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6E8-FEFC-4947-82D2-C912D6E39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9280" y="554760"/>
            <a:ext cx="842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6699"/>
                </a:solidFill>
                <a:latin typeface="Times New Roman"/>
              </a:rPr>
              <a:t>Коагуляция золей электролитам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новным фактором, вызывающим коагуляцию, является действие на коллоидный раствор электролитов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111040"/>
            <a:ext cx="849636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Эмпирические правила электролитной коагуля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ильные электролиты при определенной концентрации могут вызвать коагуляцию золя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Правило знака заряд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агуляцию золя вызывает тот ион электролита, знак заряда которого противоположен заряду коллоидной частицы. Этот ион электролита называют </a:t>
            </a: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ионом-коагулятором</a:t>
            </a: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27144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ый электролит по отношению к коллоидному раствору обладает порогом коагуляции (коагулирующей способностью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Порог коагуля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γ,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которая минимальная концентрация электролита, достаточная для того, чтобы вызвать коагуляцию золя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24360" y="5445000"/>
                <a:ext cx="12952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B89-AB6E-45F0-85A7-AA0E9C220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460800"/>
            <a:ext cx="828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Коагулирующая способность электролит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- величина, обратная порогу коагуляции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72000" y="981000"/>
                <a:ext cx="1081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24000" y="1460160"/>
            <a:ext cx="8569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Влияние заряда иона коагулятора (правило Шульце-Гарди)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оагулирующая способность электролита возрастает с увеличением заряда иона – коагулятора: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24360" y="2349360"/>
                <a:ext cx="12952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6154920" y="25646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2 ÷ 6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692360" y="3429000"/>
                <a:ext cx="59040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ние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заряда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иона</m:t>
                        </m:r>
                        <m:r>
                          <m:t xml:space="preserve">→</m:t>
                        </m:r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ние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коагулирующей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пособности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50920" y="4580280"/>
            <a:ext cx="84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агулирующая способность ионов одной и той же валентности возрастает с увеличением радиуса иона-коагулятора (лиотропные ряды)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050920" y="5445000"/>
                <a:ext cx="5545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b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возрастание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коагулирующей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способности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368-6BEE-4B52-84C0-CAA42050B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30160" y="16884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ример решения зада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670320"/>
            <a:ext cx="8642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ль гидроксида цинка получен путем сливания раствор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Cl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пределите знак заряда коллоидной частицы, напишите формулу мицеллы, если пороги коагуляции растворов электролитов следующие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31800" y="312408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11280" y="1773360"/>
          <a:ext cx="7848360" cy="850680"/>
        </p:xfrm>
        <a:graphic>
          <a:graphicData uri="http://schemas.openxmlformats.org/drawingml/2006/table">
            <a:tbl>
              <a:tblPr/>
              <a:tblGrid>
                <a:gridCol w="2152440"/>
                <a:gridCol w="1216080"/>
                <a:gridCol w="1216080"/>
                <a:gridCol w="1216080"/>
                <a:gridCol w="20476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ли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l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NO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моль/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324000" y="277992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Решение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м знак заряда частиц золя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анионы всех электролитов одновалентны, а их пороги коагуляции разные, что не соответствует правилу Шульце-Гарди, следовательно, коагуляцию золя вызывают не анионы, а катионы электролитов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анном случае: чем выше заряд катиона, тем меньше порог коагуляции (справедливо правило Шульце – Гарди). Следовательно, согласно «правилу знака заряда», заряд коллоидной частицы отрицательный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овательно, ПО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ОН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И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40000" y="6021360"/>
                <a:ext cx="496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H</m:t>
                                    </m:r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H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a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B8A-441B-4CCC-83D9-F687B6E6D8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859320"/>
            <a:ext cx="842472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6699"/>
                </a:solidFill>
                <a:latin typeface="Times New Roman"/>
              </a:rPr>
              <a:t>Устойчивость дисперсной систе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неизменность во времени ее основных параметров: дисперсности и равномерного распределения частиц дисперсной фазы в дисперсионной среде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иды устойчивости (Песков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99"/>
                </a:solidFill>
                <a:latin typeface="Times New Roman"/>
              </a:rPr>
              <a:t>1. Агрегатив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пособность частиц дисперсной фазы оказывать сопротивление слипанию и тем самым удерживать определенную степень дисперсности (способность сохранять размер частиц дисперсной фазы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99"/>
                </a:solidFill>
                <a:latin typeface="Times New Roman"/>
              </a:rPr>
              <a:t>2. Седиментацион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устойчивость дисперсной фазы по отношению к силе тяжести (способность сохранять равномерное распределение частиц дисперсной фазы по объему дисперсионной среды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нарушении агрегативной устойчивости происходит нарушение седиментационной устойчивост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AC4-B614-4EC8-8FC0-AC22BE61F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1047240"/>
            <a:ext cx="7488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Факторы агрегативной устойчивост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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Электростатически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ДЭС на поверхности частиц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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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Адсорбционно - сольват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сякая коллоидная частица окружена сольватной оболочкой растворителя, препятствующей сближению частиц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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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Энтропий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тремление частиц дисперсной фазы к равномерному распределению по объему дисперсионной среды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0121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09E-0390-4955-8107-F96F167D9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148428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Коагуляц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процесс разрушения коллоидных систем за счет слипания частиц, образования более крупных агрегатов с потерей седиментационной устойчивости и последующим разделением фаз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479760"/>
            <a:ext cx="8569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Стадии коагуля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Скрытая коагуляц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невооруженным глазом нельзя наблюдать каких – либо внешних  изменений в золе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Явная коагуляц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о коагуляции можно судить невооруженным глазом: помутнение, выпадение осадка, изменение цвет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542-3D7B-42B1-A83A-77A006B47E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123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Кинетика коагуля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Теория кинетики быстрой коагуляции Смолуховског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490480"/>
            <a:ext cx="83516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рой агрегативной устойчивости дисперсной системы является скорость ее коагуляции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Скорость коагуляци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изменение частичной концентрации дисперсной фазы в единице объема в единицу времени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азличают: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быструю коагуляци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каждое столкновение частиц приводит к их слипанию (все соударения эффективны);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Times New Roman"/>
              </a:rPr>
              <a:t>медленную коагуляци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не все столкновения частиц являются эффективными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C5A-7BF2-469C-A719-B3B38F7BB1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402840"/>
            <a:ext cx="8424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Основные положения теории Смолуховского (1916 г.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астицы сближаются в результате броуновского движения, слипаются, образуют агрегат, который совершает дальнейшее броуновское движение как единое целое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орость сближения частиц определяется коэффициентом диффузии и средним расстоянием между частицам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каждом элементарном акте участвуют только две частицы дисперсной фазы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частицы имеют одинаковый размер и обладают одинаковой подвижностью, форму частиц считают сферической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932360" y="3645000"/>
                <a:ext cx="2449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66800" y="3645000"/>
                <a:ext cx="1631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76360" y="4941720"/>
                <a:ext cx="18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651640" y="5013360"/>
                <a:ext cx="1081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10C-46E3-4EB6-85FC-9005A45BB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66364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63640" y="333360"/>
                <a:ext cx="28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170028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35280" y="2565360"/>
                <a:ext cx="5400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πr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4000" y="1052640"/>
            <a:ext cx="532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тическое расстояние, при котором становится возможным слипание двух сферических частиц одинакового радиуса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429000"/>
            <a:ext cx="8136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оянная только для данного золя, зависит от температуры и вязкости дисперсионной среды и не зависит от начальной концентрации золя и от размера частиц дисперсной фазы.</a:t>
            </a: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эксп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те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то в системе протекает «медленная коагуляция»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00000" y="4941720"/>
                <a:ext cx="2232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η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851280" y="4870080"/>
            <a:ext cx="48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грегативная устойчивость дисперсных систем увеличивается с возрастанием вязкости дисперсионной среды, понижением температуры и концентрации дисперсной фазы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C43-B9B1-48A2-BD2F-499B250BE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195920"/>
            <a:ext cx="856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луховский предложил формулы, позволяющие определить, сколько частиц того или иного порядка имеется в золе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3499560"/>
            <a:ext cx="28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первичных частиц: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32360" y="3213000"/>
                <a:ext cx="2160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187640" y="44362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вторичных частиц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59280" y="4149720"/>
                <a:ext cx="22338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836640" y="5443920"/>
            <a:ext cx="34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частиц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ого порядка: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5157720"/>
                <a:ext cx="25207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26440" y="2564640"/>
            <a:ext cx="30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общего числа частиц: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932360" y="2349360"/>
                <a:ext cx="18716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380-E3C7-4368-BB50-6808D9F434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671640" cy="3143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95640" y="4831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1640" y="594000"/>
            <a:ext cx="475308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се частицы первичные. Затем число первичных части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меньшается, но начинают появляться двойные, тройные и др. более крупные частицы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ре коагуляции эти частицы постепенно исчезают, уступая место частицам высших порядков – более крупным агрегатам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554720"/>
            <a:ext cx="878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и распределения общего числа части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частиц первого поряд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нотонно убывающие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меньшается быстрее, 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частиц высших порядков кривые проходят через максимум, высота которого уменьшается по мере увеличения размера частиц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645000"/>
            <a:ext cx="347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с.1. Изменение числа частиц во времени при быстрой коагуляции</a:t>
            </a:r>
            <a:r>
              <a:rPr b="0" lang="en-US" sz="1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02E-435A-430B-AE23-2B83563AC6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3:46:15Z</dcterms:created>
  <dc:creator>Admin</dc:creator>
  <dc:description/>
  <dc:language>en-US</dc:language>
  <cp:lastModifiedBy>Администратор</cp:lastModifiedBy>
  <dcterms:modified xsi:type="dcterms:W3CDTF">2011-06-23T14:17:40Z</dcterms:modified>
  <cp:revision>71</cp:revision>
  <dc:subject/>
  <dc:title>Слайд 1</dc:title>
</cp:coreProperties>
</file>