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B46B-230C-44A9-B15E-B3A41513B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A0E1-79B8-4603-8F7A-4A8695872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BB51-F1FC-448F-8727-C196E6279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661E-BE00-4823-9032-06A941E8A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FA67E-50A9-4B10-98A8-D16CC4321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A16D9-0503-40EA-8053-A3AF77C4D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C2BEC-96A4-4143-B121-A44B61548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8A649-A805-4E98-B65C-60ED7A25C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DF22A-7A64-4135-B20B-781386D72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B7CF2-CC5E-4511-928A-7B2D698A8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07C7D-A26B-4A26-A1ED-A3A8C05C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C17B-089B-4164-866C-3D20F134C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E8DD9-23B1-4E70-8A7A-FB3FDD92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BEE14-19C8-4496-94E5-DA64735C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AB966-0B26-446B-B8E2-2F3B75B37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18DAE-10A2-414B-9D45-70147D976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31492-8545-4C16-827C-8CA5BE423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9DED-0ACC-4BC1-BB08-DA517855E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9EC5-BD31-46F9-9684-EF608DDF9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F538-5B03-482F-B0F8-677E36D8B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BC34-D3E3-4D5A-AA17-F817755A4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3FCF-CFFD-46C7-9562-43276162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94B2-3D84-4160-AE77-0B665B48D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487D-8978-45FB-A24B-89021839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CA081-4C41-41B3-BFFF-B576BFAAF5D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E9325-A3E9-45A8-B052-4885C1D4C01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imes New Roman"/>
              </a:rPr>
              <a:t>Электрические свойства дисперсных систем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139200" y="3963960"/>
            <a:ext cx="54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Лектор: к.х.н., доцент каф. Ф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Михеева Елена Валентин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356000" y="1727640"/>
            <a:ext cx="439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добное строение ДЭС вполне возможно при отсутствии теплового движения ион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8360" y="3941640"/>
            <a:ext cx="8351640" cy="24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Times New Roman"/>
              </a:rPr>
              <a:t>Недостатки теор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Теория не объясняет электрокинетических явлений (разрыв ДЭС по плоскости скольжения происходит на сравнительно большом расстоянии от межфазной поверхности, а не на расстоянии ионного радиуса, как по теори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По теории значение электрокинетического потенциала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ζ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всегда должно быть равно значению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φ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  а это не та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3246480" cy="3887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43FC-1DC3-4179-BC61-54527A39BA6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056960" y="259200"/>
            <a:ext cx="75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Times New Roman"/>
              </a:rPr>
              <a:t>Теория строения  ДЭС  Гуи – Чепмена (1910-1913 г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4360" y="1123920"/>
            <a:ext cx="8208720" cy="25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Times New Roman"/>
              </a:rPr>
              <a:t>Основные полож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ПИ вблизи заряженной стенки находятся под действием двух сил: электростатических и сил теплового движения, то есть на некотором расстоянии от поверх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ПИ рассматриваются как материальные точки, имеющие заряд, но не имеющие объе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Распределение ПИ в поле электростатических сил поверхности твердой фазы подчиняется закону Больцма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619280" y="3716280"/>
                <a:ext cx="20160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С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С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е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Fz</m:t>
                            </m:r>
                            <m:r>
                              <m:t xml:space="preserve">ϕ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5508720" y="3716280"/>
                <a:ext cx="187164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С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С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е</m:t>
                        </m:r>
                      </m:e>
                      <m:sup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Fz</m:t>
                            </m:r>
                            <m:r>
                              <m:t xml:space="preserve">ϕ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611280" y="4780080"/>
            <a:ext cx="82087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де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концентрация ПИ и коионов в объеме раствора пр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φ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= 0;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zφ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работа по переносу 1 моль ионов из объема раствора, гд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φ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= 0  в данную точку ДЭС (ПОИ заряжены отрицательно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AA48-2386-4AFC-823E-9D41FF09903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11280" y="2132280"/>
            <a:ext cx="81360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4. По мере удаления ПИ от поверхности, кулоновские силы ослабевают, а силы теплового движения возрастают. Это приводит к тому, что концентрация ПИ уменьшается и становится равной концентрации ионов в глубине раствора, возникает диффузный слой П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5. Дисперсионная среда непрерывна и характеризуется величиной диэлектрической проницаемости 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5640" y="3539160"/>
            <a:ext cx="820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266E-68FE-4518-9FFD-0AFAA308D0A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755640" y="258840"/>
            <a:ext cx="806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Times New Roman"/>
              </a:rPr>
              <a:t>Качественное представление о строении ДЭС по теории  Гуи – Чепм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16360" y="1652760"/>
            <a:ext cx="4248360" cy="172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де: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φ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электрический потенциал,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А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плоскость скольжения (плоскость вдоль которой происходи разрыв ДЭС под действием электрического поля)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79280" y="4211280"/>
            <a:ext cx="8642520" cy="24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ЭС имеет диффузное строение: ПИ находятся в жидкой фазе на некотором расстоянии от поверх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тенциа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φ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меньшается по экспоненте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лоскость скольжения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АВ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находится в жидкости на некотором расстояни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от межфазной границы. Толщина слоя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не известна, но примерно составляет около 1 н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ересечение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АВ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с кривой падения потенциала дает величину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ζ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3816360" cy="3173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D819-E85B-49B2-A53C-86540047ADD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801800" y="288000"/>
            <a:ext cx="55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Times New Roman"/>
              </a:rPr>
              <a:t>Количественная теория Гуи – Чэпм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55640" y="738000"/>
            <a:ext cx="8209080" cy="185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Цель теории: найти закон изменения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φ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 ДЭС с расстоянием: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φ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(х)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где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расстояние от границы раздела фаз (используют уравнение Пуассона – Больцман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8080"/>
                </a:solidFill>
                <a:latin typeface="Times New Roman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ри малых значениях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φ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φ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&lt; 25 мВ), потенциал с расстоянием убывает по экспоненциальному закон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3132000" y="2852640"/>
                <a:ext cx="2087640" cy="6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е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κх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8244000" y="312408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2987640" y="3573360"/>
                <a:ext cx="2373480" cy="9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κ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δ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zF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εε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8244000" y="386064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9640" y="440568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где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эффективная толщина ДЭС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4360" y="4975560"/>
            <a:ext cx="81356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ледовательно,  потенциал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φ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на расстоянии порядк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уменьшается в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2,72 раз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12BC-E126-451A-8338-6B57B99B68B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95280" y="382680"/>
            <a:ext cx="853272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равнение (2) дает возможность оценить значение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 заданной концентрации электролита, учитывая, что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Т = 298 К, ε = 8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187280" y="1484280"/>
          <a:ext cx="7313760" cy="2122560"/>
        </p:xfrm>
        <a:graphic>
          <a:graphicData uri="http://schemas.openxmlformats.org/drawingml/2006/table">
            <a:tbl>
              <a:tblPr/>
              <a:tblGrid>
                <a:gridCol w="3757680"/>
                <a:gridCol w="3556080"/>
              </a:tblGrid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, моль/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н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≈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468360" y="4110480"/>
            <a:ext cx="842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читывая, что диаметр не слишком крупного иона примерно равен 0,3 нм, простой расчет показывает, что в не слишком концентрированных растворах ДЭС достаточно протяжен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AC42-E6C1-46DC-99C5-9B1301A5AFA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971640" y="1508400"/>
            <a:ext cx="7848360" cy="15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При больших значениях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φ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φ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gt; 100 мВ)  электрический потенциал поверхност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φ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не влияет на значени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φ(х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в диффузной части ДЭС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 этом случае  ПИ сильно экранируют слой ПО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3059280" y="3141720"/>
                <a:ext cx="251928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zF</m:t>
                        </m:r>
                      </m:den>
                    </m:f>
                    <m:sSup>
                      <m:e>
                        <m:r>
                          <m:t xml:space="preserve">е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κх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8101080" y="342900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4730-EEF8-42FA-9A43-D58543AC566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780280" y="15768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80"/>
                </a:solidFill>
                <a:latin typeface="Times New Roman"/>
              </a:rPr>
              <a:t>Анализ уравнений (1 и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900000" y="548280"/>
            <a:ext cx="79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Электрический потенциал поверхности с расстоянием уменьшается по экспоненциальному закон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6300720" y="907920"/>
                <a:ext cx="136836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е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х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1417680" y="1556280"/>
            <a:ext cx="711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Величина потенциала зависит от концентрации электролита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6300720" y="1916280"/>
                <a:ext cx="180036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е</m:t>
                        </m:r>
                      </m:e>
                      <m:sup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С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rad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611280" y="2534040"/>
            <a:ext cx="82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 увеличением концентрации ПИ, кривая изменения потенциала с расстоянием падает более крут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84360" y="3284640"/>
            <a:ext cx="3887640" cy="25257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08720" y="3429000"/>
                <a:ext cx="230328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С</m:t>
                        </m:r>
                      </m:e>
                      <m:sub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9" name="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5651640" y="4292640"/>
                <a:ext cx="194472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ζ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ζ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ζ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395280" y="5743800"/>
            <a:ext cx="8497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 увеличением концентрации электролита величина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ζ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меньшается,  ДЭС сжима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8962-6846-4985-953B-13DC6BE46C8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838080" y="189000"/>
            <a:ext cx="53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Величина потенциала зависит от заряда ПИ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6516720" y="189000"/>
                <a:ext cx="158436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z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719280" y="83664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 увеличением заряда ПИ, кривая изменения потенциала с расстоянием падает более крут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4032360" cy="2620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5724360" y="2060640"/>
                <a:ext cx="16560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5580000" y="2924280"/>
                <a:ext cx="187344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ζ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ζ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ζ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539640" y="4291560"/>
            <a:ext cx="817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 увеличением заряда ПИ величина 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ζ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меньшается,  ДЭС сжимае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5280" y="4915440"/>
            <a:ext cx="8353440" cy="11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В случае малых потенциалов ДЭС ведет себя как плоский конденсатор, в котором поверхностная плотность заряда прямо пропорциональна электрическому потенциалу поверхност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φ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3132000" y="6093000"/>
                <a:ext cx="165600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8838-F8C9-4F98-A48A-ADD76FDCC96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2088000" y="646560"/>
            <a:ext cx="488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Times New Roman"/>
              </a:rPr>
              <a:t>Недостатки теории Гуи - Чэпм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042920" y="1613520"/>
            <a:ext cx="7848720" cy="16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Ионы имеют определенные размеры и не могут подойти к поверхности ближе, чем на расстоянии ионного радиу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Не учитывается природа ПИ, т.е. размер иона и его валентность 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Li</a:t>
            </a:r>
            <a:r>
              <a:rPr b="0" i="1" lang="ru-RU" sz="2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0" i="1" lang="ru-RU" sz="2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ru-RU" sz="2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о теории должны давать одно и тоже значение потенциала в ДЭС, а на самом деле нет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979640" y="5749200"/>
            <a:ext cx="547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Теория не объясняет разные знаки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φ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и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ζ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3059280" y="3357720"/>
            <a:ext cx="2879640" cy="2522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9128-A723-4F79-9026-156A684B30B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401920" y="288000"/>
            <a:ext cx="44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Times New Roman"/>
              </a:rPr>
              <a:t>Электрокинетические я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5640" y="734040"/>
            <a:ext cx="806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Электрокинетические явления были открыты профессором Московского университета Ф.Ф.Рейсом в 1808 г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00000" y="1773360"/>
            <a:ext cx="2519640" cy="1830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780000" y="1848240"/>
            <a:ext cx="5113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8080"/>
                </a:solidFill>
                <a:latin typeface="Times New Roman"/>
              </a:rPr>
              <a:t>Электроосмос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явление переме-щения жидкой дисперсионной среды относительно неподвижной дисперсной фазы под действием электрического пол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50920" y="4292640"/>
            <a:ext cx="3529080" cy="17114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780000" y="4219920"/>
            <a:ext cx="496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8080"/>
                </a:solidFill>
                <a:latin typeface="Times New Roman"/>
              </a:rPr>
              <a:t>Электрофорез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явление переме-щения дисперсной фазы относительно неподвижной жидкой дисперсионной среды под действием электрического пол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2166-D6F0-444F-A876-D557BCB3C16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2735280" cy="2125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08360" y="259200"/>
            <a:ext cx="5184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8080"/>
                </a:solidFill>
                <a:latin typeface="Times New Roman"/>
              </a:rPr>
              <a:t>Потенциал течени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винке, 1859г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возникновение разности потенциалов при движении дисперсионной среды относительно неподвижной дисперсной фазы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971640" y="2637000"/>
            <a:ext cx="2236680" cy="3024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419640" y="2773800"/>
            <a:ext cx="532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</a:rPr>
              <a:t>Потенциал оседания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орн, 1879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возникновение разности потенциалов при движении дисперсной фазы относительно неподвижной дисперсионной среды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492360" y="4148640"/>
            <a:ext cx="5327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ткрытые явления были названы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</a:rPr>
              <a:t>электрокинетическим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так как в них обнаруживалась связь между скоростью протекания (кинетикой) и электрическим пол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5823360"/>
            <a:ext cx="87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Times New Roman"/>
              </a:rPr>
              <a:t>       </a:t>
            </a:r>
            <a:r>
              <a:rPr b="1" lang="ru-RU" sz="2200" spc="-1" strike="noStrike">
                <a:solidFill>
                  <a:srgbClr val="008080"/>
                </a:solidFill>
                <a:latin typeface="Times New Roman"/>
              </a:rPr>
              <a:t>Причиной электрокинетических явлений является наличие на границе раздела фаз </a:t>
            </a:r>
            <a:r>
              <a:rPr b="1" i="1" lang="ru-RU" sz="2200" spc="-1" strike="noStrike">
                <a:solidFill>
                  <a:srgbClr val="008080"/>
                </a:solidFill>
                <a:latin typeface="Times New Roman"/>
              </a:rPr>
              <a:t>двойного электрического слоя (ДЭС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9140-19E8-45FD-BEC9-9787AE5A243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358360" y="-1080"/>
            <a:ext cx="442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Times New Roman"/>
              </a:rPr>
              <a:t>Причины возникновения ДЭ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8360" y="474840"/>
            <a:ext cx="80643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Times New Roman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еравенство электрохимических потенциалов ионов в кристаллической решетке тв. тела и ионов в раствор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4067280" y="1268280"/>
                <a:ext cx="172872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тв</m:t>
                        </m:r>
                      </m:sub>
                    </m:sSub>
                    <m:r>
                      <m:t xml:space="preserve">≠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  <m:sub>
                        <m:r>
                          <m:t xml:space="preserve">р</m:t>
                        </m:r>
                        <m:r>
                          <m:t xml:space="preserve">−</m:t>
                        </m:r>
                        <m:r>
                          <m:t xml:space="preserve">р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826920" y="1772280"/>
            <a:ext cx="79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200" spc="-1" strike="noStrike">
                <a:solidFill>
                  <a:srgbClr val="008080"/>
                </a:solidFill>
                <a:latin typeface="Times New Roman"/>
              </a:rPr>
              <a:t>Электрохимический потенциал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– химический потен-циал плюс электрохимическая составляюща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32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75960" y="2564280"/>
            <a:ext cx="5983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8080"/>
                </a:solidFill>
                <a:latin typeface="Times New Roman"/>
              </a:rPr>
              <a:t>А</a:t>
            </a:r>
            <a:r>
              <a:rPr b="0" i="1" lang="en-US" sz="2200" spc="-1" strike="noStrike">
                <a:solidFill>
                  <a:srgbClr val="008080"/>
                </a:solidFill>
                <a:latin typeface="Times New Roman"/>
              </a:rPr>
              <a:t>. </a:t>
            </a:r>
            <a:r>
              <a:rPr b="1" i="1" lang="en-US" sz="2200" spc="-1" strike="noStrike">
                <a:solidFill>
                  <a:srgbClr val="008080"/>
                </a:solidFill>
                <a:latin typeface="Times New Roman"/>
              </a:rPr>
              <a:t>Адсорбционный механизм образования ДЭ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195640" y="2997360"/>
                <a:ext cx="395892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gNO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J</m:t>
                        </m:r>
                      </m:e>
                      <m: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изб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AgJ</m:t>
                    </m:r>
                    <m:r>
                      <m:t xml:space="preserve">↓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NO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4716360" y="3645000"/>
                <a:ext cx="165600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  <m:sub>
                        <m:sSubSup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р</m:t>
                            </m:r>
                            <m:r>
                              <m:t xml:space="preserve">−</m:t>
                            </m:r>
                            <m:r>
                              <m:t xml:space="preserve">р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sub>
                    </m:sSub>
                    <m:r>
                      <m:t xml:space="preserve">&gt;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  <m:sub>
                        <m:sSubSup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тв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4076640"/>
            <a:ext cx="2736720" cy="22543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700360" y="3714840"/>
            <a:ext cx="6121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                          , то иодид – ионы 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тенциалопределяющие ионы – ПО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 будут терять свою сольватную оболочку и адсорбироваться на поверхности твердой фазы, заряжая частицу отрицатель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 отрицательно заряженной частице из раствора за счет электростатического притяжения будут притягиваться ионы противоположного знака 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тивоионы – П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 - ионы кал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6516720" y="2133720"/>
                <a:ext cx="172872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zF</m:t>
                    </m:r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8A0F-9747-43C8-BD4C-48C7C143ED9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481040" y="193680"/>
            <a:ext cx="589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80"/>
                </a:solidFill>
                <a:latin typeface="Times New Roman"/>
              </a:rPr>
              <a:t>В</a:t>
            </a:r>
            <a:r>
              <a:rPr b="0" i="1" lang="en-US" sz="2400" spc="-1" strike="noStrike">
                <a:solidFill>
                  <a:srgbClr val="008080"/>
                </a:solidFill>
                <a:latin typeface="Times New Roman"/>
              </a:rPr>
              <a:t>. </a:t>
            </a:r>
            <a:r>
              <a:rPr b="1" i="1" lang="en-US" sz="2400" spc="-1" strike="noStrike">
                <a:solidFill>
                  <a:srgbClr val="008080"/>
                </a:solidFill>
                <a:latin typeface="Times New Roman"/>
              </a:rPr>
              <a:t>Механизм поверхностной диссоци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8360" y="765000"/>
            <a:ext cx="8459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Если                           , то иодид – ионы с поверхности будут переходить в раствор за счет поверхностной диссоциации и образовывать у поверхности внешнюю обкладку ДЭ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верхность твердой фазы в этом случае зарядится положительно  - внутренняя обкладка ДЭ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2268360" y="612720"/>
                <a:ext cx="16560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sSubSup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тв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sSubSup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р</m:t>
                            </m:r>
                            <m:r>
                              <m:t xml:space="preserve">−</m:t>
                            </m:r>
                            <m:r>
                              <m:t xml:space="preserve">р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539640" y="2616480"/>
            <a:ext cx="84250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</a:rPr>
              <a:t>II</a:t>
            </a:r>
            <a:r>
              <a:rPr b="0" lang="ru-RU" sz="2400" spc="-1" strike="noStrike">
                <a:solidFill>
                  <a:srgbClr val="008080"/>
                </a:solidFill>
                <a:latin typeface="Times New Roman"/>
              </a:rPr>
              <a:t>.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Образование ДЭС за счет специфической адсорбции ионов, не входящих в кристаллическую решетка твердой фазы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00000" y="3606840"/>
            <a:ext cx="2376720" cy="21272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708360" y="3573360"/>
            <a:ext cx="51116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пример, золь парафина в растворе гидроксида натр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И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H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ПИ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3AF8-4A9C-4E0F-A607-6E9E421CD8B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50920" y="331920"/>
            <a:ext cx="88930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Times New Roman"/>
              </a:rPr>
              <a:t>III</a:t>
            </a:r>
            <a:r>
              <a:rPr b="1" lang="ru-RU" sz="2400" spc="-1" strike="noStrike">
                <a:solidFill>
                  <a:srgbClr val="008080"/>
                </a:solidFill>
                <a:latin typeface="Times New Roman"/>
              </a:rPr>
              <a:t>.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Образование ДЭС за счет ориентированной адсорбции ПА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ли жирных кислот в растворе диссоциируют, например натриевая соль стеариновой кислот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2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924360" y="1052640"/>
                <a:ext cx="414000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ONa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sub>
                    </m:sSub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O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Na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116000" y="1628640"/>
                <a:ext cx="144000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sub>
                    </m:sSub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O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2583720" y="1556280"/>
            <a:ext cx="37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верхностно–активный анио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300720" y="1628640"/>
            <a:ext cx="2843280" cy="20624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53440" y="3932640"/>
            <a:ext cx="79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Times New Roman"/>
              </a:rPr>
              <a:t>IV</a:t>
            </a:r>
            <a:r>
              <a:rPr b="1" lang="ru-RU" sz="2400" spc="-1" strike="noStrike">
                <a:solidFill>
                  <a:srgbClr val="008080"/>
                </a:solidFill>
                <a:latin typeface="Times New Roman"/>
              </a:rPr>
              <a:t>.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Образование ДЭС за счет внешней разности потенциал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479556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80"/>
                </a:solidFill>
                <a:latin typeface="Times New Roman"/>
              </a:rPr>
              <a:t>Движущей силой возникновения ДЭС является стремление системы уменьшить свою избыточную поверхностную энергию.</a:t>
            </a:r>
            <a:r>
              <a:rPr b="1" i="1" lang="en-US" sz="2400" spc="-1" strike="noStrike">
                <a:solidFill>
                  <a:srgbClr val="008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C75F-25FB-4CA8-A4CA-53E09C9ABEA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645280" y="548640"/>
            <a:ext cx="374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</a:rPr>
              <a:t>Теории строения ДЭ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1303560"/>
            <a:ext cx="8569440" cy="49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Times New Roman"/>
              </a:rPr>
              <a:t>Экспериментальные факты, послужившие основой для создания теорий строения ДЭ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808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Существует электрический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термодинамический) потенциал поверхности относительно жидкой дисперсионной среды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φ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808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808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Существует электрокинетический потенциал (дзета – потенциал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ζ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808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Обнаружено, что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φ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ζ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по абсолютной величине: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φ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&gt; 0,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ζ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&gt; 0;  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φ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&lt; 0,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ζ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&lt; 0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808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Оказалось, что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φ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 и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ζ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могут иметь разные знаки: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φ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&gt; 0,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ζ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&lt;0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808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Электролиты могут по-разному влиять на величину и знак заряд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φ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 и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ζ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987640" y="2852640"/>
                <a:ext cx="252108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zF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ОИ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D32A-A65D-4DB2-BC42-2E895ABA55E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50920" y="1497960"/>
            <a:ext cx="864216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6208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1. ДЭС плоский 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&lt;&lt;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6208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2. ДЭС состоит из относительно прочно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вязанных с поверхностью дисперсной фазы ПОИ и эквивалентного числа ПИ в жидкой дисперсионной сред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6208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3. ПОИ равномерно распределены по поверхности дисперсной фаз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6208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4. Между ПИ и коионами, существует динамическое равновесие. (коионы – ионы, имеющие тот же знак заряда что и ПИ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6208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5. Дисперсионная среда непрерывна и ее влияние на ДЭС определяется величиной диэлектрической проницаемости 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6208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6208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тличие теорий в том, что их авторы давали различные толкования структуры слоя ПИ, то есть строению внешней обкладки ДЭС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7960" y="549360"/>
            <a:ext cx="823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Times New Roman"/>
              </a:rPr>
              <a:t>Основные положения, лежащие в основе всех теорий ДЭ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8956-A7B6-40B6-9ACD-17F7607C3E1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700560" y="403560"/>
            <a:ext cx="77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Times New Roman"/>
              </a:rPr>
              <a:t>Теория строения  ДЭС  Гельмгольца – Перрена (1879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5640" y="851040"/>
            <a:ext cx="799164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Э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лоский конденсатор: внутренняя обкладка состоит из ПОИ, прочно связанных с поверхностью твердой фазы, а внешняя обкладка расположена в жидкости параллельно поверхности на расстоянии межмолекулярного порядка от не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верхностный заряд (потенциал) – уменьшается линейно с расстоянием от поверхности в соответствии с теорией плоского конденсато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начение </a:t>
            </a:r>
            <a:r>
              <a:rPr b="1" i="1" lang="ru-RU" sz="2000" spc="-1" strike="noStrike">
                <a:solidFill>
                  <a:srgbClr val="008080"/>
                </a:solidFill>
                <a:latin typeface="Times New Roman"/>
              </a:rPr>
              <a:t>плотности поверхностного заряд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ρ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, Кл/м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 - количество ПОИ на единицу площади поверхности рассчитываетс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соответствии с теорией плоского конденсато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3564000" y="4076640"/>
                <a:ext cx="180000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ε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δ</m:t>
                        </m:r>
                      </m:den>
                    </m:f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395280" y="4726080"/>
            <a:ext cx="8496360" cy="15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де: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ε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диэлектрическая проницаемость среды,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электрическая константа, равная 8,85·1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</a:rPr>
              <a:t>-1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Ф/В,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φ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разность потенциалов между дисперсной фазой и раствором,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расстояние между обкладками конденсатора, равное радиусу противоио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41A3-03EA-4EEE-A395-4A3012DC3A7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1T18:20:11Z</dcterms:created>
  <dc:creator>Admin</dc:creator>
  <dc:description/>
  <dc:language>en-US</dc:language>
  <cp:lastModifiedBy>Администратор</cp:lastModifiedBy>
  <dcterms:modified xsi:type="dcterms:W3CDTF">2011-06-23T14:09:11Z</dcterms:modified>
  <cp:revision>56</cp:revision>
  <dc:subject/>
  <dc:title>Слайд 1</dc:title>
</cp:coreProperties>
</file>