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946-E0E6-4FF2-9069-63609827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9CD-DF98-4157-8B13-A0D9178F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C77-3051-4ABA-A3CB-9C4B31B5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8BC-2934-4D96-8D7E-E7484D56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4B17-3425-47CF-82CC-964A3C0A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FFB4-C360-4B14-8062-4E4165C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698F-9A96-4BBA-ADEF-2E1B17BC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03E7-D8FE-4166-A4A7-60BF4A24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2487-29B5-42D6-AC7A-59F3A314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943E-C3B1-43E4-B2B7-2FA726B0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7E69-8FF1-4BCF-9207-DACA395D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D14-569D-49F9-A3B7-9F7DA53F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3E8A-36CD-466A-B05D-FA13DC97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7259-2B5E-49BA-BBA4-CCBC69A7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20EE-ED5E-4F80-A41D-BB3E8107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88A8-1573-452F-A3C5-40185A1A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7E0F-B64E-4DB2-932C-91D0B2F1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635-FBE9-4AA4-AC59-290CA8E5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740-4A91-451B-AD28-6B3DA886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9D8-774F-415C-9950-1F9B7396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6BB-D2F0-404A-954A-F1DE7DA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199-A197-4738-8008-28A553BA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E4E-839B-4C35-9620-BC8256E7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4DD-727C-4984-A124-67BCDD81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F8C4-2516-45B6-AFC2-859DF89F297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BCAC-B571-4E77-8713-2A3F93418DF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4920" y="1413000"/>
            <a:ext cx="76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Современные представления о строении ДЭ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56080" y="4607640"/>
            <a:ext cx="37400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336666"/>
                </a:solidFill>
                <a:latin typeface="Times New Roman"/>
              </a:rPr>
              <a:t>Лектор: к.х.н., доцент каф. ФАХ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336666"/>
                </a:solidFill>
                <a:latin typeface="Times New Roman"/>
              </a:rPr>
              <a:t>Михеева Елена Валентиновн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47640" y="189000"/>
            <a:ext cx="74170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Введем в систему индифферентный электролит, один из ионов которого одинаков с  ПИ  ДЭС   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1124280"/>
            <a:ext cx="73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центрация ионов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будет увеличиваться,  ДЭС сжимается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0640" y="3357720"/>
            <a:ext cx="132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18320" y="2755080"/>
            <a:ext cx="18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96000" y="3933720"/>
                <a:ext cx="19447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012000" y="4581360"/>
                <a:ext cx="1728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9687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47640" y="260280"/>
            <a:ext cx="396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ведем в систем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886320"/>
            <a:ext cx="734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сжатия ДЭС будет сопровождаться обменом ионов в ДЭС: обмен ионов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на ионы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+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612400"/>
            <a:ext cx="79218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как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ДЭС будет сжиматься сильнее, чем в случае ионов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 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меньшаются сильнее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916360" y="5373720"/>
                <a:ext cx="1728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a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443640" y="2205000"/>
                <a:ext cx="1800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96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37280" y="692280"/>
            <a:ext cx="3765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66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Введем в систему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6720" y="187920"/>
            <a:ext cx="326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66"/>
                </a:solidFill>
                <a:latin typeface="Times New Roman"/>
              </a:rPr>
              <a:t>Перезарядка по Штерну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1057320"/>
            <a:ext cx="49323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ы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я высокой адсорбционной способности, могут подходить к поверхности в количестве большем, чем это нужно для компенсации поверхностного заряда.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ют свой знак (на схем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няют знак н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+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вая падения потенциал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вращается в кривую падания потенциал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к. ионы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достраивать поверхность агрегата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4515840"/>
            <a:ext cx="4932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создается положение, когда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удут иметь разные знаки. Это явление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зарядка по Штерн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ьнейшее повышение концентрации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системе приведет к сжатию диффузного слоя и падению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кривая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при этом значен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стается неизменным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3952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47640" y="186840"/>
            <a:ext cx="734544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валентные ионы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асто применяют для перезарядки дисперсных частиц, имеющих отрицательны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зета-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енциал. </a:t>
            </a:r>
            <a:endParaRPr b="0" lang="en-US" sz="19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ерезарядку способны вызвать одновалентные ионы, обладающие большим адсорбционным потенциалом – анионы алколоидов (стрихнина, хинина) и анионы красителей (кристаллический фиолетовый, метиленовый голубой и др.).</a:t>
            </a:r>
            <a:endParaRPr b="0" lang="en-US" sz="1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74800"/>
            <a:ext cx="496872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лияние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тенциал отрицательно заряженной поверхности следующих индифферентных электролитов: 1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C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2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 3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    4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787640"/>
            <a:ext cx="5616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Электролиты с одно- и двухвалентными катионами (кривые 1 и 2) только понижают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потенциал, в то время как электролиты с трех- и четырехвалентным катионом вызывают ее перезарядку (кривые 3 и 4).</a:t>
            </a:r>
            <a:endParaRPr b="0" lang="en-US" sz="19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8000" y="2637000"/>
            <a:ext cx="31906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10400" y="260280"/>
            <a:ext cx="62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Times New Roman"/>
              </a:rPr>
              <a:t>Влияние неиндифферентных электролитов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932400"/>
            <a:ext cx="741708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идифферентный электрол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лектролит, ионы которого способны достраивать кристаллическую решетку дисперсной фазы, изменяя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560" y="2205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66"/>
                </a:solidFill>
                <a:latin typeface="Times New Roman"/>
              </a:rPr>
              <a:t>Пример:</a:t>
            </a: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11280" y="2133720"/>
                <a:ext cx="4319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gN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из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AgJ</m:t>
                    </m:r>
                    <m:r>
                      <m:t xml:space="preserve">↓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65840" y="2996280"/>
            <a:ext cx="24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66"/>
                </a:solidFill>
                <a:latin typeface="Times New Roman"/>
              </a:rPr>
              <a:t>Формула мицеллы: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348000" y="2852640"/>
                <a:ext cx="4194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J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24000" y="3556800"/>
            <a:ext cx="856908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бавим электролит, содержащий ион, способный достраивать кристаллическую решетку твердой фаз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именный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И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анном случае добави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одид – ион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удет достраивать кристаллическую решетк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грега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м самым увеличива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ива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он калия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удет увеличивать концентраци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м самым сжимая ДЭС (крива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219640" y="344520"/>
            <a:ext cx="367200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концентрация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велика, то будет происходить достройка ДЭС, при этом будет увеличиваться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&gt;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&gt; ζ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) –  кривы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808080"/>
            <a:ext cx="8642160" cy="25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завершения достройки ДЭС (концентрац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лика), вводимый электролит будет вести себя как индифферентный, т.е. сжимать ДЭС (т.к. количество ПИ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он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удет увеличиваться)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= 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и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&lt; ζ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м образом, при введении в систему все возрастающих количеств неиндифферентного электролита, дзета-потенциал сначала возрастает, а затем уменьшается проходя через максимум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&lt; ζ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&gt; ζ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38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878-6ED3-4792-9E8D-8CB5DBEB98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47640" y="259200"/>
            <a:ext cx="7417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ведение неиндифферентного электролита, содержащего ион, знак заряда которого противоположен по знаку ПОИ коллоидной частицы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821240"/>
            <a:ext cx="82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золь иодида серебра, с ПОИ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и с ПИ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крива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3012120"/>
            <a:ext cx="307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бавим избыто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 baseline="-25000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3712680"/>
            <a:ext cx="856908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оны сереб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пособны достраивать кристаллическую решетку твердой фазы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 будет происходить нейтрализация поверхностного заряда и образование дополнительного количества дисперсной фазы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(за счет взаимодейств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с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этом случае термодинамический потенциал поверхности будет уменьшаться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–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&lt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–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–ζ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&lt;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–ζ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( крива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627280" y="2349360"/>
                <a:ext cx="4321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J</m:t>
                                </m:r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003640" y="233640"/>
            <a:ext cx="414036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дальнейшем увеличении концентраци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удет происходить полная перестройка мицеллы: ПОИ 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 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ллоидная частица будет заряжена положительно (кривая 3):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678200" y="1628640"/>
                <a:ext cx="44658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J</m:t>
                                </m:r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g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</m:sup>
                    </m:s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N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003640" y="2388960"/>
            <a:ext cx="396108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этом случае электрический и дзета- потенциалы поменяют свои знаки с отрицательного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–φ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на положительны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+φ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крива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3579480"/>
            <a:ext cx="40687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льнейшее увеличение концентраци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иводит к увеличению положительных значений электрического и дзета-потенциалов: +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04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&gt;+φ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+ζ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&gt;+ζ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(крива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8920" y="5417640"/>
            <a:ext cx="878508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завершения достройки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нитрат – ион ведет себя как индифферентный электролит, сжимая ДЭС (крива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этом: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+φ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04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=+φ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05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+ζ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+ζ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 Происходит сжатие ДЭС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8625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76360" y="176400"/>
            <a:ext cx="72738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Times New Roman"/>
              </a:rPr>
              <a:t>Измерение электрокинетического потенциала из явлений электрофореза и электроосмоса</a:t>
            </a:r>
            <a:r>
              <a:rPr b="0" lang="ru-RU" sz="1800" spc="-1" strike="noStrike" baseline="-25000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105156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лектрокинетический потенциа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отенциал, возникающий на границе скольжения фаз при их относительном перемещении в электрическом поле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лектрокинетический потенциал отражает свойства ДЭС и определяется экспериментально из ЭКЯ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2773080"/>
            <a:ext cx="8569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корость перемещения коллоидной частицы в электрическом поле зависит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66"/>
              </a:buClr>
              <a:buSzPct val="150000"/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пряженности внешнего электрического поля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66"/>
              </a:buClr>
              <a:buSzPct val="150000"/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 строения ДЭС коллоидной частиц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еличины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66"/>
              </a:buClr>
              <a:buSzPct val="150000"/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 свойств дисперсионной среды (вязк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диэлектрической проницаем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4535640"/>
            <a:ext cx="871380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линейной скорости перемещения частиц дисперсной фазы (дисперсионной среды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несенная к напряженности электрического пол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лектрофоретической (электроосмотической) подвижность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24360" y="5734080"/>
                <a:ext cx="1655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47640" y="18792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лектрокинетический потенциал связан с электрофоретической подвижностью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равнением Гельмгольца – Смолуховского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80000" y="1052640"/>
                <a:ext cx="3313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ζ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68360" y="1989000"/>
                <a:ext cx="1224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908000" y="198324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мещение границы золь - боковая жидкость за время электрофореза;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ремя электрофореза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39640" y="2781360"/>
                <a:ext cx="1008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979640" y="277560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риложенная разность потенциалов; 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расстояние между электродам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385992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авнение Гельмгольца - Смолуховского для электрофореза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855880" y="4365720"/>
                <a:ext cx="32860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ζ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η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⋅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ε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2198520"/>
            <a:ext cx="79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1924 г. Штерн предложил схему строения ДЭС, в которой объединил теории Гельмгольца – Перрена и Гуи – Чепмена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теории Штерна ПИ ориентируются около заряженной поверхности под действием трех сил: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) электростатических (кулоновских) сил притяжения,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) специфически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дсорбционных) сил притяжения;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) сил теплового движения, стремящихся равномерно распределить ионы по объему ДЭС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8520" y="765000"/>
            <a:ext cx="34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Теория Штерна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358440" y="31320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Times New Roman"/>
              </a:rPr>
              <a:t>Электроосмос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835560"/>
            <a:ext cx="734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расчета дзета-потенциала при электроосмосе заменяют линейную скорость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вижения частицы на объемну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95280" y="1700280"/>
                <a:ext cx="863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υ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988640" y="1843560"/>
            <a:ext cx="60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лощадь капилляров мембраны (диафрагмы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320" y="2564280"/>
            <a:ext cx="43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гласно закону Ома, напряженность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лектрического поля равна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796000" y="2565360"/>
                <a:ext cx="1800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250920" y="343584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лектрическое сопротивление связано удельной электропроводностью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724360" y="3357720"/>
                <a:ext cx="2089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896760" y="429156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гда получим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076720" y="4221000"/>
                <a:ext cx="31687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κ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κ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50920" y="50122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авнение Гельмгольца – Смолуховского для расчета дзета- потенциала при электроосмосе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76360" y="5805360"/>
                <a:ext cx="6337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ζ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υ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κ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⋅</m:t>
                        </m:r>
                        <m:r>
                          <m:t xml:space="preserve">υ</m:t>
                        </m:r>
                        <m:r>
                          <m:t xml:space="preserve">⋅</m:t>
                        </m:r>
                        <m:r>
                          <m:t xml:space="preserve">κ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898200"/>
            <a:ext cx="849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ктрофоре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меняют для: очистки, разделения медицинских препаратов, пищевых продуктов; нанесения тонких слоев неметаллических покрытий; получения изоляционных пленок, изготовления прорезиненных тканей и т.д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ктроосмо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меняют для: обезвоживания грунта при возведении гидротехнических сооружений (платин, дамб); при сушке торфа и дерева; сушке стен и фундаментов сырых зданий; добыче нефти и т.д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нциал осе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является причиной грозовых разрядов в атмосфере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нциал те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снова многих биологический процессов: течение крови через капилляры кровеносной системы дает биопотенциал. Потенциал течения возникают при транспортировке жидкого топлива (при протекании нефти вместе с водой образуется огромный заряд, приводящий к взрывам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4269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Практическое значение электрокинетических</a:t>
            </a:r>
            <a:r>
              <a:rPr b="1" lang="en-US" sz="2000" spc="-1" strike="noStrike">
                <a:solidFill>
                  <a:srgbClr val="3366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явлени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71440" y="430560"/>
            <a:ext cx="54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Times New Roman"/>
              </a:rPr>
              <a:t>Основные положения теории Штер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648800"/>
            <a:ext cx="8569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Ионы имеют определенные размеры и не могут подходить к заряженной поверхности ближе, чем на расстоянии ионного радиуса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Учитывается специфическое взаимодействие ионов с поверхностью твердой фазы, обусловленное действием адсорбционных сил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Некоторые многозарядные ионы                             или ионы органических соединений, обладая высокой адсорбционной способностью, могут притягиваться к поверхности даже если она не заряжена.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водится понятие </a:t>
            </a:r>
            <a:r>
              <a:rPr b="1" i="1" lang="en-US" sz="2200" spc="-1" strike="noStrike">
                <a:solidFill>
                  <a:srgbClr val="336666"/>
                </a:solidFill>
                <a:latin typeface="Times New Roman"/>
              </a:rPr>
              <a:t>адсорбционного потенциал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работы перемещения 1 моль ПИ из объема раствора в плотный слой при условии, что поверхность не заряже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Учитывается природа ПИ  в ДЭС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435640" y="3284640"/>
                <a:ext cx="2016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РО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</m:sup>
                    </m:sSub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716360" y="219600"/>
            <a:ext cx="4176720" cy="33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о Штерну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первый сло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ПИ удерживаются у поверхности под действием как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электростатических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так и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адсорбционных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 сил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, образуя плоский конденсатор толщиной δ, предусмотренный теорией Гельмгольца – Перрена. </a:t>
            </a:r>
            <a:endParaRPr b="0" lang="en-US" sz="19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тот слой, в котором наблюдается резкое паден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по прямой называют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адсорбционным (плотным, гельмгольцевским) слоем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998520"/>
            <a:ext cx="856944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стальные ПИ, необходимые для компенсации заряда ПОИ, в результате теплового движения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образуют диффузную часть ДЭС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 Эту часть ДЭС, где потенциал убывает по экспоненте, называют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диффузным слоем или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лоем Гуи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олное падение общего электрического потенциал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складывается из падения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адсорбционного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потенциала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) в плотной части ДЭС (ли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) и падения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потенциала диффузного сло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в его диффузионной части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244440"/>
            <a:ext cx="4500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92720" y="28800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Times New Roman"/>
              </a:rPr>
              <a:t>Электрокинетический потенциа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897120"/>
            <a:ext cx="864216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ктрический потенциал поверх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и потенциал диффузного сло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кспериментально измерить нельзя. Можно измерить только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6666"/>
                </a:solidFill>
                <a:latin typeface="Times New Roman"/>
              </a:rPr>
              <a:t>Электрокинетический потенциал </a:t>
            </a:r>
            <a:r>
              <a:rPr b="0" i="1" lang="ru-RU" sz="2400" spc="-1" strike="noStrike">
                <a:solidFill>
                  <a:srgbClr val="336666"/>
                </a:solidFill>
                <a:latin typeface="Times New Roman"/>
              </a:rPr>
              <a:t>ζ</a:t>
            </a:r>
            <a:r>
              <a:rPr b="1" i="1" lang="ru-RU" sz="2000" spc="-1" strike="noStrike">
                <a:solidFill>
                  <a:srgbClr val="336666"/>
                </a:solidFill>
                <a:latin typeface="Times New Roman"/>
              </a:rPr>
              <a:t> (дзета-потенциал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это  потенциал, возникающий на границе скольжения фаз при их относительном перемещении в электрическом поле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ение границы скольжения (ли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в ДЭС не известно. Полагают, что граница скольжения проходит на расстоянии толщины плотной части ДЭС, и в этом случа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ζ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 либо смещена в жидкую фазу, тогда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ζ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имают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ζ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скольку теоретические закономерности, предсказанные дл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хорошо подтверждаются на опыте в отношении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ктрокинетический потенциал отражает свойства ДЭС и определяется экспериментально из ЭКЯ. Порядок величин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зависимости от состава фаз и концентрации электролита обычно составляет 0,01÷0,1 В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39160" y="28800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Строение коллоидных мицел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835200"/>
            <a:ext cx="741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Мицелл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юкло 1908г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ица дисперсной фазы вместе с ДЭС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еннюю часть мицеллы составляет </a:t>
            </a: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агрегат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остоящий из большого числа молекул или атомов малорастворимого соединения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грегат электронейтрален, но обладает большой адсорбционной способностью и способен адсорбировать на своей поверхности ионы из раствора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ПОИ</a:t>
            </a:r>
            <a:r>
              <a:rPr b="0" lang="ru-RU" sz="20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834000"/>
            <a:ext cx="85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2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ыборе ПОИ пользуются </a:t>
            </a: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правилом Фаянса-Панета-Песк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«На твердой поверхности агрегата в первую очередь адсорбируются ионы, которые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66"/>
              </a:buClr>
              <a:buSzPct val="150000"/>
              <a:buFont typeface="Times New Roman"/>
              <a:buChar char="•"/>
              <a:tabLst>
                <a:tab algn="l" pos="442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ходят в состав агрегат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66"/>
              </a:buClr>
              <a:buSzPct val="150000"/>
              <a:buFont typeface="Times New Roman"/>
              <a:buChar char="•"/>
              <a:tabLst>
                <a:tab algn="l" pos="442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ы достраивать кристаллическую решетку агрегат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66"/>
              </a:buClr>
              <a:buSzPct val="150000"/>
              <a:buFont typeface="Times New Roman"/>
              <a:buChar char="•"/>
              <a:tabLst>
                <a:tab algn="l" pos="442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ют малорастворимое соединение с ионами агрегат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66"/>
              </a:buClr>
              <a:buSzPct val="150000"/>
              <a:buFont typeface="Times New Roman"/>
              <a:buChar char="•"/>
              <a:tabLst>
                <a:tab algn="l" pos="442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оморфны с ионами агрегата.»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3851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51280" y="1051200"/>
            <a:ext cx="4970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грегат вместе с  ПОИ  составляе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дро мицелл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ряженное ядро мицеллы, притягивае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з раствора. Часть ПИ образует адсорбционный слой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дро с ПИ плотной части ДЭС образую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ану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коллоидную частиц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Знак заряда коллоидной частицы определяется знаком заряда ПОИ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14972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оидную частицу окруж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 диффузной сло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стальная часть ПИ, подвергающихся броуновскому движению и менее прочно связанная с ядром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целом образу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цел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Мицелла в отличие от коллоидной частицы электронейтральна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02720" y="3322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Times New Roman"/>
              </a:rPr>
              <a:t>Пример 1: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51280" y="333360"/>
                <a:ext cx="47530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gNO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из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AgJ</m:t>
                    </m:r>
                    <m:r>
                      <m:t xml:space="preserve">↓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09840" y="881640"/>
            <a:ext cx="763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ктролит-стабилизатор, ионы которого образуют ДЭС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80000" y="1341360"/>
                <a:ext cx="3024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gN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79280" y="1813320"/>
            <a:ext cx="8712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правилу Фаянса - Пескова,  и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И,  ионы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И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ула мицеллы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308720" y="1844640"/>
                <a:ext cx="648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6960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40000" y="30096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Times New Roman"/>
              </a:rPr>
              <a:t>Влияние электролитов на ДЭС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0040" y="835560"/>
            <a:ext cx="59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Times New Roman"/>
              </a:rPr>
              <a:t>Влияние индифферентных электролитов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1188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фферентный электрол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лектролит, ионы которого не могут достраивать кристаллическую решетку агрегата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4920" y="211824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66"/>
                </a:solidFill>
                <a:latin typeface="Times New Roman"/>
              </a:rPr>
              <a:t>Пример: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700360" y="2133720"/>
                <a:ext cx="4176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gN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из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AgJ</m:t>
                    </m:r>
                    <m:r>
                      <m:t xml:space="preserve">↓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21480" y="2851920"/>
            <a:ext cx="24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66"/>
                </a:solidFill>
                <a:latin typeface="Times New Roman"/>
              </a:rPr>
              <a:t>Формула мицеллы: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92360" y="2781360"/>
                <a:ext cx="43927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J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9:05:58Z</dcterms:created>
  <dc:creator>Admin</dc:creator>
  <dc:description/>
  <dc:language>en-US</dc:language>
  <cp:lastModifiedBy>Администратор</cp:lastModifiedBy>
  <dcterms:modified xsi:type="dcterms:W3CDTF">2011-06-23T14:14:38Z</dcterms:modified>
  <cp:revision>73</cp:revision>
  <dc:subject/>
  <dc:title>Слайд 1</dc:title>
</cp:coreProperties>
</file>