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52B-2908-4B7C-8967-AF1E0470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170-60CF-4129-B8BA-7EC2FCCE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642-1D6B-490F-96A9-D52E249C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0E2-BD4F-408F-B887-07C20156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67D-682C-4091-ABAD-E6538331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2C8-7912-4F03-91A0-ACC6B91B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55A-5159-485F-8508-8E269C1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3A6C-52C3-4F47-9F2B-8232C49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C6DF-8CEB-4474-A58E-0C5F598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90FE-DFF1-40C1-8459-2B40BB8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6F2-9FBB-4AC2-8291-2413087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07E-AB46-443D-BA45-415DEF5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9D3-70CF-4A1B-8761-0C692B2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BF33-2BC4-467F-B453-D40888C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685C-887C-4819-ADE9-11217E0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B7F-5C0D-41DC-898B-7AF98CA3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CD4E-2906-4630-B2B6-18380984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8CF-7113-4D07-8CFC-1CCAAA6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565-F3E9-4629-A51C-AC8E65F1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7F8-D68A-41AB-9F31-69FF22D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9F3-A327-4DB8-BF82-92D0CB2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9F4-B85B-4470-AF99-8422649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D10-7326-4317-8BF3-4F6AA16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36D-F3D4-4475-9B63-29FE3EF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771-D790-4579-8A97-2A3170771F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7004-FB56-430C-A935-950D0FCDB0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Times New Roman"/>
              </a:rPr>
              <a:t>Адсорбция на границе твердое тело - раст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448640"/>
            <a:ext cx="8569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Особенности адсорбции из раст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ff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Одновременно могут протекать два параллельных проце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дсорбция молекул растворенного веще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дсорбция молекул раствор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67ff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Адсорбироваться будет то вещество, которое в большей степени будет снижать поверхностное натяжение адсорбе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Различаю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олекулярную адсорб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онную адсорб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онообменную адсорб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D79-3875-4C6C-AF52-CE49398F8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-1440"/>
            <a:ext cx="8785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олекулярная адсорб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Молекулярная 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адсорбция на поверхности адсорбента молекул неэлектрол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Правило уравнивания полярностей Ребинд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ещество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удет адсорбироваться на границе раздела фаз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/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 оно будет уравнивать полярности этих ф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16360" y="1700280"/>
                <a:ext cx="1728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219640" y="177336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588000" y="1700280"/>
                <a:ext cx="1683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79280" y="2203920"/>
            <a:ext cx="87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сорбат должен занимать промежуточное значение по полярности между полярностью адсорбента и полярностью раствор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037320"/>
            <a:ext cx="8713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Влияние природы растворителя на адсорбцию (правило Шилова)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лучше растворяется адсорбтив в растворителе, тем он хуже адсорбируется поверхностью твердого адсорб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ополярные адсорбенты (уголь) лучше адсорбируют неполярные органические соединения. Полярные адсорбтивы лучше адсорбируются на поверхности ионных кристаллов, окс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5102280"/>
            <a:ext cx="194472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5083200"/>
            <a:ext cx="201600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890-B902-4F5D-8C83-75ED8D37C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46044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Инверсия смач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Инверсия смачива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качественное изменение смачивания за счет адсорбции ПАВ на твердой поверхности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537080" cy="2631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457704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Применение молекулярной адсорбци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хроматография – разделение многокомпонентных смес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чистка жидкостей, питьевой во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звлечение ценных примес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дицина (отравление ядами, токсин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6F5-234D-484F-BCCB-4F45591BA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322920"/>
            <a:ext cx="8496000" cy="62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Ионная адсорб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Ионная 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адсорбция сильных электролитов из водных растворов, обусловленная химическими и электростатическими си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оны избирательно адсорбируются на поверхностях, состоящих из ионов или полярных молек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Правило избирательной адсорбции Пескова – Фая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вердой поверхности адсорбента в первую очередь адсорбируются ионы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ходят в состав кристаллической решетки адсорб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ы достраивать кристаллическую решетку адсорб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морфны с ионами адсорб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Влияние природы ионов на их адсорбционную 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оны адсорбируются тем луч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заряд и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адиус и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поляризуемость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25D-6EF5-4A74-8A90-B7D989245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-1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С увеличением заряда иона его адсорбционная способность увеличивается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124280"/>
            <a:ext cx="835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увеличением радиуса иона его адсорбционная способность увелич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оны, расположенные в порядке возрастания адсорбционной способности образуют 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лиотропные ряды (ряды Гофмейстера)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73280" y="2492280"/>
                <a:ext cx="5491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/>
                          </m:mr>
                        </m: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b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</m:mr>
                        </m:m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ние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адсорбционной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способности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50920" y="476280"/>
                <a:ext cx="5977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  <m:e/>
                                  <m:e/>
                                </m:mr>
                              </m:m>
                            </m:e>
                            <m:e/>
                            <m:e/>
                            <m:e/>
                          </m:mr>
                        </m:m>
                        <m:sSup>
                          <m:e>
                            <m:r>
                              <m:t xml:space="preserve">К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ние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адсорбционной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способности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79280" y="48679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увеличением поляризуемости иона его адсорбционная способность увелич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яризуемость анионов всегда больше поляризуемости катионов, поэтому на твердой поверхности преимущественно будут адсорбироваться ан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56000" y="6237360"/>
                <a:ext cx="3960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&l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&lt;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265800" cy="134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861-C32B-460C-B781-336EDC203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800280"/>
            <a:ext cx="856908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Ионообменная адсорбция. Ион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Ионообменная 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оцесс обмена ионов между раствором и ионообменником (сорбент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Ионообменники (иониты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высокомолекулярные полиэлектролиты, состоящие из синтетического нерастворимого каркаса с привитыми функциональными группами кислотного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, 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 и др.) и основного 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др.)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Особенности ионообменная адсорб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фична, каждый адсорбент (ионит) обменивается определенными типами и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сегда обрати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екает более медленно, чем молекулярная 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767ff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меняется  рН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87C-CA2B-48FB-88F7-06DDB31C1A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6320" y="332280"/>
            <a:ext cx="703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Уравнение</a:t>
            </a:r>
            <a:r>
              <a:rPr b="0" lang="en-US" sz="2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33ff"/>
                </a:solidFill>
                <a:latin typeface="Times New Roman"/>
              </a:rPr>
              <a:t>изотермы ионного обме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Б.П.Никольск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16360" y="765000"/>
                <a:ext cx="2232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12200" y="1676160"/>
            <a:ext cx="4628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=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уравнение упроща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1268280"/>
                <a:ext cx="1440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79280" y="2335320"/>
            <a:ext cx="87868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ff"/>
                </a:solidFill>
                <a:latin typeface="Times New Roman"/>
              </a:rPr>
              <a:t>Применение ионного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Обессоливание (деминерализация) во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удал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 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Cl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цесс обессоливание состоит в пропускании засоленной воды через колонки, заполненные катионитом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форме и анионитом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95640" y="3645000"/>
                <a:ext cx="50403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95640" y="4076640"/>
                <a:ext cx="4392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Cl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87720" y="4507560"/>
            <a:ext cx="72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Опреснение во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морских судах и космических кораб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95640" y="4941720"/>
                <a:ext cx="4824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68360" y="5300640"/>
                <a:ext cx="4464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Cl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0920" y="57092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истка сточных вод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аление ионов тяжелых металло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95640" y="6237360"/>
                <a:ext cx="5040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a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880-1EF0-4073-8253-CF9103F72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6:23:36Z</dcterms:created>
  <dc:creator>Admin</dc:creator>
  <dc:description/>
  <dc:language>en-US</dc:language>
  <cp:lastModifiedBy>Администратор</cp:lastModifiedBy>
  <dcterms:modified xsi:type="dcterms:W3CDTF">2010-10-13T02:30:04Z</dcterms:modified>
  <cp:revision>29</cp:revision>
  <dc:subject/>
  <dc:title>Слайд 1</dc:title>
</cp:coreProperties>
</file>