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5354-9DED-44B7-BA73-17CACF56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083E2-2A76-4E91-914C-E58B85DC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8EFCF-D89E-467E-9AB8-EC7AD3D0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D853-D997-4CA3-B1C0-825845CC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CF8B-2FCC-4039-B35F-53879F4C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12FA-9073-4A9A-9693-60FAA2F6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50AF-12D1-4912-A54D-36431AD1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409A-A9BC-46C9-8FA3-341D4E29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0FD3-682C-4E36-89B6-EB2F6A31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BDD9-9C15-46DF-BAB4-E65D01D7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574D-1BB1-4A33-B6C2-575D72A7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45EA-812B-4B61-82E8-FB0F26EA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AB71-9EE0-47A6-B57B-40362131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97C6-7CEF-4774-9CB4-A6622A62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78C1-4E33-49AE-A40F-36FE0610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5F01-1A9E-4BC5-9524-B8DBC965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A6FB-5974-4262-A6F6-7C5649C1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6A48-4FDE-44FC-8E10-F571776C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0DEAA-2398-4A2E-A068-D5EB4018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87B54-DF84-474F-8927-8CE54D32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FCC8-2099-4B04-8936-B27E9206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2AD57-63AC-4FC9-8FB2-8617CB9F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80C4-1289-45C6-86AD-ACFA42E6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0BD29-216C-41B2-86DB-52621674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9A19-C5FB-46FA-81F8-9596808BC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95E8-3598-449B-B298-57C7685271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Адсорбция на границе раздела жидкость - газ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9160" y="5079960"/>
            <a:ext cx="416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Лектор: к.х.н., доцент каф. Ф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Михеева Еле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24000" y="25920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Times New Roman"/>
              </a:rPr>
              <a:t>Применение уравнения Лэнгмюра к адсорбции на границе жидкость-газ. Расчет молекулярных констант ПА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12464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Уравнение Лэнгмюра приводят к линейному ви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148360" y="1052640"/>
                <a:ext cx="2449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К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3745080" cy="244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287160" y="35866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0480" y="2971080"/>
            <a:ext cx="41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Определяют параметры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и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198792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Строят изотерму адсорбции в линейных координа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199400"/>
            <a:ext cx="525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Определяют площадь молекулы ПАВ в поверхностном сло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012000" y="4149720"/>
                <a:ext cx="14396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24000" y="4941720"/>
            <a:ext cx="4752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Определяют длину молекулы ПАВ -  толщину поверхностного слоя 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84720" y="5084640"/>
                <a:ext cx="12970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М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635280" y="5619600"/>
            <a:ext cx="2352600" cy="123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F125-7714-4E1B-87A2-A6D5480386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55640" y="835560"/>
            <a:ext cx="165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ПА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276720" y="836640"/>
                <a:ext cx="2519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611280" y="1602360"/>
            <a:ext cx="194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ПА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ред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059280" y="1628640"/>
                <a:ext cx="374472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047600" y="403560"/>
            <a:ext cx="72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Эмпирическое уравнение Б.А.Шишковского (19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2132280"/>
            <a:ext cx="813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- константа для всего гомологического ряда,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константа для данного П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285156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выяснить физический смысл констант в уравнении Шишковского, продифференцируем уравнение по концентр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3645000"/>
                <a:ext cx="36003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995640" y="4365720"/>
                <a:ext cx="28800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826920" y="5300640"/>
                <a:ext cx="2521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780000" y="5536080"/>
            <a:ext cx="49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равнение Шишковского в дифференциальной фор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4360" y="5300640"/>
          <a:ext cx="3035160" cy="1081080"/>
        </p:xfrm>
        <a:graphic>
          <a:graphicData uri="http://schemas.openxmlformats.org/drawingml/2006/table">
            <a:tbl>
              <a:tblPr/>
              <a:tblGrid>
                <a:gridCol w="30351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771640" y="1484280"/>
          <a:ext cx="4319640" cy="71928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9FA2-2F8A-4424-9B90-10B38FA2F4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51804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дставим уравнение Шишковского в дифференциальной форме в уравнение Гибб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314064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Times New Roman"/>
              </a:rPr>
              <a:t>Физический смысл констант в уравнении Шишк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258920" y="1268280"/>
                <a:ext cx="6840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С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179280" y="2394720"/>
            <a:ext cx="874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сюда:  </a:t>
            </a:r>
            <a:r>
              <a:rPr b="1" i="1" lang="ru-RU" sz="2400" spc="-1" strike="noStrike">
                <a:solidFill>
                  <a:srgbClr val="00007d"/>
                </a:solidFill>
                <a:latin typeface="Times New Roman"/>
              </a:rPr>
              <a:t>А = К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,      </a:t>
            </a:r>
            <a:r>
              <a:rPr b="1" i="1" lang="ru-RU" sz="2400" spc="-1" strike="noStrike">
                <a:solidFill>
                  <a:srgbClr val="00007d"/>
                </a:solidFill>
                <a:latin typeface="Times New Roman"/>
              </a:rPr>
              <a:t>В = Г</a:t>
            </a:r>
            <a:r>
              <a:rPr b="1" i="1" lang="ru-RU" sz="2400" spc="-1" strike="noStrike" baseline="-25000">
                <a:solidFill>
                  <a:srgbClr val="00007d"/>
                </a:solidFill>
                <a:latin typeface="Times New Roman"/>
                <a:ea typeface="Times New Roman"/>
              </a:rPr>
              <a:t>∞</a:t>
            </a:r>
            <a:r>
              <a:rPr b="1" i="1" lang="en-US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RT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385920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7d"/>
              </a:buClr>
              <a:buSzPct val="150000"/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</a:t>
            </a:r>
            <a:r>
              <a:rPr b="1" i="1" lang="en-US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 предельную адсорбцию (независимо от длины углеводородного радикала в гомологическом ряду, каждая молекула занимает одну и туже площадь в поверхностном слое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7d"/>
              </a:buClr>
              <a:buSzPct val="150000"/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</a:t>
            </a:r>
            <a:r>
              <a:rPr b="1" i="1" lang="en-US" sz="2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авновесный характер адсорбции (константа равновесия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E82A-C373-4655-9EB5-4C6A759574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98880" y="47520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Поверхностная актив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978120"/>
            <a:ext cx="597672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личин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∂σ/∂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лужит характеристикой поведения веществ при адсорб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Поверхностная активность</a:t>
            </a:r>
            <a:r>
              <a:rPr b="0" i="1" lang="ru-RU" sz="2000" spc="-1" strike="noStrike">
                <a:solidFill>
                  <a:srgbClr val="00007d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7d"/>
                </a:solidFill>
                <a:latin typeface="Times New Roman"/>
              </a:rPr>
              <a:t>g</a:t>
            </a:r>
            <a:r>
              <a:rPr b="0" i="1" lang="ru-RU" sz="2000" spc="-1" strike="noStrike">
                <a:solidFill>
                  <a:srgbClr val="00007d"/>
                </a:solidFill>
                <a:latin typeface="Times New Roman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пособность вещества понижать поверхностное натяжение на данной поверхности (Д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/моль, 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/моль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588000" y="4508640"/>
                <a:ext cx="144000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468360" y="5572800"/>
            <a:ext cx="84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м больше поверхностная активность, тем больше величина гиббсовской адсорб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300720" y="981000"/>
            <a:ext cx="2766960" cy="295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332000" y="4508640"/>
                <a:ext cx="367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C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124000" y="1773360"/>
                <a:ext cx="23036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C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F6624-918C-4028-AB05-EED6D65FB3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28080" y="475200"/>
            <a:ext cx="52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Правило Дюкло – Траубе (1884-18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1101240"/>
            <a:ext cx="835344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равило Дюкло - Траубе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увеличении углеводородного радикала на группу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–СН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верхностная активность увеличивается в 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,5 р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859280" y="1916280"/>
                <a:ext cx="2735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≃</m:t>
                    </m:r>
                    <m:r>
                      <m:t xml:space="preserve">3,0</m:t>
                    </m:r>
                    <m:r>
                      <m:t xml:space="preserve">÷</m:t>
                    </m:r>
                    <m:r>
                      <m:t xml:space="preserve">3,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859280" y="2781360"/>
            <a:ext cx="3168720" cy="2643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30200" y="5855040"/>
            <a:ext cx="871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1 – пропанол (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);    2 – бутанол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;      3 – пентанол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2754360" cy="30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58661-B1E3-40FE-95AC-2889AD7830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4000" y="1340640"/>
            <a:ext cx="828036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Границы применимости правила Дюкло – Трау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Выполняется только для полярного растворителя. Если растворитель не полярный, то с увеличением углеводородного радикала поверхностная активность ПАВ уменьшается (обращение правил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Применимо в области малых концентраций ПАВ в растворе (если «частокол Лэнгмюра», то с увеличением УВ-радикала количество ПАВ  в поверхностном слое не меняетс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Правило выполняется при комнатной температуре, т.к. с увеличением температуры происходит десорбция ПАВ в объем раств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59B9-167E-4055-B47D-7224C1BA54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4000" y="468720"/>
            <a:ext cx="849780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Работа адсорб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адсорб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ад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работа перемещения 1 моль ПАВ из объема раствор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верхностный сл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-1084320" y="37162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2203560"/>
            <a:ext cx="8496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бодная поверхностная энергия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константа адсорбционного равнове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читаем разность работ адсорбции для двух соседних членов гомологического ря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24000" y="3933720"/>
                <a:ext cx="88200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9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3,5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моль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250920" y="4875480"/>
            <a:ext cx="8569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аким образом, для перевода кажд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группы из поверхностного слоя в объемную фазу надо затратить около 3 кДж/моль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419640" y="1700280"/>
                <a:ext cx="30240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дс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9C3F-163E-4FF0-A702-0FB170E33A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991240" y="54828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Мицеллообразующие П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24000" y="981000"/>
          <a:ext cx="2647800" cy="25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2647800" cy="25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3203640" y="1242360"/>
            <a:ext cx="576108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100" spc="-1" strike="noStrike">
                <a:solidFill>
                  <a:srgbClr val="00007d"/>
                </a:solidFill>
                <a:latin typeface="Times New Roman"/>
              </a:rPr>
              <a:t>Мицеллообразующие (коллоидные) ПАВ</a:t>
            </a: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щества, очень сильно снижающие величину поверхностного натяжения в области малых концентраций, и, практически, не влияющие на величину поверхностного натяжения в области больших концентраций (кривая 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3290400"/>
            <a:ext cx="8424720" cy="32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лекулы коллоидных ПАВ состоят из большого гидрофобного углеводородного радикала и сильно гидратирующейся полярной группы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: стеариновая кислота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3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О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альмитиновая кислота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О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леиновая кисло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О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астворах коллоидных ПАВ самопроизвольно образуются агрегаты из ориентированных молекул – мицел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00007d"/>
                </a:solidFill>
                <a:latin typeface="Times New Roman"/>
              </a:rPr>
              <a:t>Мицел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ассоциат дифильных молекул, лиофильные группы которых обращены к растворителю, а лиофобные группы собираются вместе, образуя ядро мицел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547C9-9538-4A57-976C-458E050C00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635280" y="3716280"/>
            <a:ext cx="51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центрация, при которой происходит образование мицелл, назыв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критической концентрацией мицеллообразования (КК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549360"/>
            <a:ext cx="608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7d"/>
                </a:solidFill>
                <a:latin typeface="Times New Roman"/>
              </a:rPr>
              <a:t>Прямые мицелл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мицеллы ПАВ, образующиеся в водной среде  (гидрофильные полярные группы снаружи, а гидрофобные углеводородные радикалы – внутр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7d"/>
                </a:solidFill>
                <a:latin typeface="Times New Roman"/>
              </a:rPr>
              <a:t>Обратные мицелл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мицеллы ПАВ, образующиеся в неполярной жидкости (гидрофильные полярные группы внутри, а гидрофобные углеводородные радикалы – снаруж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368360" cy="1281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948360" y="1989000"/>
            <a:ext cx="1440000" cy="1322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84360" y="3213000"/>
          <a:ext cx="218916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213000"/>
                    <a:ext cx="218916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250920" y="558972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воры коллоидных ПАВ являются </a:t>
            </a: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лиофильными дисперсными систем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 самопроизвольно образующимися с минимумом энергии Гиббса и термодинамически устойчи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5DDE0-5465-4219-8F22-2839753265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55640" y="17352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5329440" cy="30211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508720" y="9482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целлы коллоидных ПА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– сферическ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 – дискообразны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– цилиндр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367200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концентрации ПАВ, превышающих ККМ, в растворе образуются </a:t>
            </a:r>
            <a:r>
              <a:rPr b="1" i="1" lang="ru-RU" sz="2000" spc="-1" strike="noStrike">
                <a:solidFill>
                  <a:srgbClr val="00007d"/>
                </a:solidFill>
                <a:latin typeface="Times New Roman"/>
              </a:rPr>
              <a:t>сферические мицелл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мицеллы Гартли). Сферические мицеллы могут содержать от 20 до 100 и более молекул П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увеличением концентрации сферические мицеллы принимают цилиндрическую, дискообразную или пластинчатую фор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концентрациях, в 10-50 раз превышающих ККМ, молекулы ПАВ приобретают цепочечную ориентацию и могут образовывать жидкокристаллическую структу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D8F5-D0BA-4C0E-8F77-F791F600C0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131840"/>
            <a:ext cx="87138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</a:rPr>
              <a:t>Особенность границы раздел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7d"/>
              </a:buClr>
              <a:buFont typeface="Wingdings" charset="2"/>
              <a:buChar char="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границе раздела фаз нет активных центров, поверхность жидкости гладк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7d"/>
              </a:buClr>
              <a:buFont typeface="Wingdings" charset="2"/>
              <a:buChar char="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екулы адсорбата свободно перемещаются по поверхности адсорбента (жидк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езультате адсорбции на поверхности жидкости оказывается то вещество, которое в большей степени будет снижать ее поверхностное натя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сорбция вещества на поверхности жидкости связана с величиной поверхностного натяжен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ундаментальным уравнением адсорбции Гибб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D9D1B-93E4-4102-91C8-3352D0A144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842120" y="40356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Классификация мицеллообразующих ПАВ</a:t>
            </a: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11280" y="944640"/>
            <a:ext cx="7848360" cy="3636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95280" y="4631040"/>
            <a:ext cx="83520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Анионные П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оли карбоновых кислот) – органические соединения, диссоциирующие на небольшой катион и крупный анион (например, олеат натрия –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ионные ПАВ проявляют поверхностную активность, в основном, в щелочной среде, имеют низкую сто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0C81-516B-472A-BFFA-8F5214B316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5280" y="466200"/>
            <a:ext cx="835344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Катионные П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рганические вещества, диссоциирующие на анион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и поверхностно-активный катион (алифатические и ароматические амины, их соли и др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являют поверхностную активность, в основном, в кислой среде, обладают низкой «биоразлагаемостью», являются токсичными и используются для изготовления бактерицидных и дезинфицирующих препа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Амфолитные П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рганические соединения, содержащие катионную и анионную группы (белковые вещества, аминокислоты). Производство таких веществ ограничено из-за  высокой сто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Неионогенные П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ещества, не диссоциирующие на ионы в полярном растворителе. Проявляют хорошие моющие свойства как в кислой, так и в щелочной среде, обладают хорошей «биоразлагаемостью», недорогие в производстве. Многие из таких веществ не имеют на вкуса, ни запаха, и поэтому, широко применяются в пищевой, парфюмерной и фармацевтической промышленнос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23F1-2D4B-49DB-A986-CE6E7A6A80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24000" y="580320"/>
            <a:ext cx="8569080" cy="57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Солюб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00007d"/>
                </a:solidFill>
                <a:latin typeface="Times New Roman"/>
              </a:rPr>
              <a:t>Солюбилизация</a:t>
            </a:r>
            <a:r>
              <a:rPr b="0" lang="ru-RU" sz="22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явление растворения веществ в мицеллах П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одных мицеллярных системах солюбилизируются вещества, нерастворимые в воде (бензол, органические растворители, жиры), т.к. ядро мицеллы проявляет свойства неполярной жидкости. Вещество, солюбилизированное раствором ПАВ, называют солюбилизатом, а ПАВ – солюбилизато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растворимость октана в воде – 0,0015%, а в 10%-ом растворе ПАВ олеата натрия, растворимость октана составляет – 2%, т.е увеличивается более, чем на три поря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7d"/>
                </a:solidFill>
                <a:latin typeface="Times New Roman"/>
              </a:rPr>
              <a:t>Применение солюбил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7d"/>
              </a:buClr>
              <a:buSzPct val="180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ющее действие ПА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7d"/>
              </a:buClr>
              <a:buSzPct val="180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готовление эмульсион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азочных жидк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7d"/>
              </a:buClr>
              <a:buSzPct val="180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ение фармпрепар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7d"/>
              </a:buClr>
              <a:buSzPct val="180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ение пищевых 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6348C-1841-4960-95B7-FD4F325946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90480" y="475200"/>
            <a:ext cx="79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Фундаментальное уравнение адсорбции Гиббса (выв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33840"/>
            <a:ext cx="84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пишем объединенное уравнение первого и второго начал термодинамики для систем с переменным числом моль через изменение энергии 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635280" y="1700280"/>
                <a:ext cx="4032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d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dT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85080" y="2318400"/>
            <a:ext cx="220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р, Т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08360" y="2349360"/>
                <a:ext cx="251928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7956720" y="2405880"/>
            <a:ext cx="5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3048480"/>
            <a:ext cx="828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нтегрируем уравнение (1), при постоянных интенсивных параметрах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σ,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780000" y="3500280"/>
                <a:ext cx="1655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σ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956720" y="3558240"/>
            <a:ext cx="5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00428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дифференцируем уравнение (2), считая все параметры переменны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843280" y="4437000"/>
                <a:ext cx="45352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8028000" y="4493160"/>
            <a:ext cx="5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364000" y="5084640"/>
                <a:ext cx="2448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20760" y="514260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чтем из уравнения  (3)  уравнение (1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28000" y="5142600"/>
            <a:ext cx="5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586188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340000" y="5516640"/>
                <a:ext cx="36720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σ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d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8028000" y="6006240"/>
            <a:ext cx="5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0C48-EA3C-43BB-A72E-D780F2763B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755640" y="1989000"/>
          <a:ext cx="3251160" cy="1171800"/>
        </p:xfrm>
        <a:graphic>
          <a:graphicData uri="http://schemas.openxmlformats.org/drawingml/2006/table">
            <a:tbl>
              <a:tblPr/>
              <a:tblGrid>
                <a:gridCol w="3251160"/>
              </a:tblGrid>
              <a:tr h="11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2133720"/>
                <a:ext cx="25923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211640" y="221508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ундаментальное адсорбционное уравнение Гибб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95496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равнение теоретически применимо к любой границе раздела фаз, но в основном используется для границ раздела: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г-ж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ж-ж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т.к. поверхностное натяжение для этих границ раздела легко определяется из опы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396E-742A-4585-993F-382E8E9176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40860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им выражение, связывающее величину поверхностного натяжения с концентраций адсорб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системы. состоящей из двух компонентов: растворителя (1) и растворенного вещества (2) можно запис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3360" y="2118240"/>
            <a:ext cx="51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разбавленном растворе                     ,  тог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708360" y="2133720"/>
                <a:ext cx="10080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843280" y="1628640"/>
                <a:ext cx="32414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d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84360" y="3645000"/>
                <a:ext cx="2232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11280" y="5445000"/>
                <a:ext cx="251928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С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700360" y="2565360"/>
                <a:ext cx="3889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d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T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3780000" y="3678840"/>
            <a:ext cx="50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даментальное адсорбционное уравнение Гиббса, выраженное через активность растворенного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5120" y="4837680"/>
            <a:ext cx="64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азбавленных растворах неэлектролит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гд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5470920"/>
            <a:ext cx="50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даментальное адсорбционное уравнение Гиббса, выраженное через концентрацию растворенного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3645000"/>
          <a:ext cx="2746440" cy="1008000"/>
        </p:xfrm>
        <a:graphic>
          <a:graphicData uri="http://schemas.openxmlformats.org/drawingml/2006/table">
            <a:tbl>
              <a:tblPr/>
              <a:tblGrid>
                <a:gridCol w="27464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68360" y="5373720"/>
          <a:ext cx="2735280" cy="114156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11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CCCF-7215-4DC5-B2CE-EDD63E5A68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636200" y="46080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Анализ адсорбционного уравнения Гибб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4360" y="1341360"/>
                <a:ext cx="19447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С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3168720" cy="3052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843280" y="1098720"/>
            <a:ext cx="5905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уравнения Гиббса следует, что концентрирование вещества в поверхностном слое или, наоборот, переход его в объемную фазу определяется знаком производной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σ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2608200"/>
            <a:ext cx="5329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σ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 &lt;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, данное вещество ПИВ (поверхностно-инактивно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σ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данное вещество ПИВ (ПНВ) - растворы сахаров, глицерин. Такие вещества равномерно распределяются между объемом фазы и поверхностным сло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σ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 &gt;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данное вещество ПАВ (поверхностно-активно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0000F-4E69-4301-B957-6BAB65E6FA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714400" y="403560"/>
            <a:ext cx="32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Times New Roman"/>
              </a:rPr>
              <a:t>Свойства ПАВ и П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836640"/>
            <a:ext cx="889308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7d"/>
                </a:solidFill>
                <a:latin typeface="Times New Roman"/>
              </a:rPr>
              <a:t>Поверхностно-инактивные вещ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ru-RU" sz="1900" spc="-1" strike="noStrike" baseline="-25000">
                <a:solidFill>
                  <a:srgbClr val="000000"/>
                </a:solidFill>
                <a:latin typeface="Times New Roman"/>
              </a:rPr>
              <a:t>ПИВ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 σ</a:t>
            </a:r>
            <a:r>
              <a:rPr b="0" i="1" lang="ru-RU" sz="1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) ПИВ хорошо растворимы в растворителе и более полярны, чем чистый растворитель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) ПИВ – электролиты, ионы которых окружены сольватной оболочкой, препятствующей выходу иона в поверхностный сло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2637000"/>
            <a:ext cx="856908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7d"/>
                </a:solidFill>
                <a:latin typeface="Times New Roman"/>
              </a:rPr>
              <a:t>Поверхностно-активные вещ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i="1" lang="el-GR" sz="19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ru-RU" sz="1900" spc="-1" strike="noStrike" baseline="-25000">
                <a:solidFill>
                  <a:srgbClr val="000000"/>
                </a:solidFill>
                <a:latin typeface="Times New Roman"/>
              </a:rPr>
              <a:t>ПАВ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9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ru-RU" sz="1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) ПАВ сравнительно малорастворимы и менее полярны, чем чистый растворитель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) Молекулы ПАВ имеют </a:t>
            </a:r>
            <a:r>
              <a:rPr b="1" i="1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дифильное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троение, т.е. состоят из гидрофильной (полярная группа) и гидрофобной (углеводородная цепь, радикал) группировок – полярные органические вещества. В качестве полярных групп могут выступать: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OOH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i="1" lang="ru-RU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HO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i="1" lang="ru-RU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68360" y="5056200"/>
            <a:ext cx="4248360" cy="180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199C-C89E-4801-BC74-C911A29681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61960" y="533880"/>
            <a:ext cx="79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Строение адсорбционного слоя на границе раствор -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885960"/>
            <a:ext cx="8351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едствие своего дифильного строения молекулы ПАВ располагаются в поверхностном слое определенны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ПА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мала – псевдогазовые пл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4653000" y="43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2543400"/>
            <a:ext cx="4537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ПА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яя - крупные конденсированные кластеры «острова» -  псевдожидкие пле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3983400"/>
            <a:ext cx="4390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П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елика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- «молекулярный частокол Ленгмюра» из вертикально расположенных молек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5080320"/>
            <a:ext cx="82072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рименение плено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7d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шение волн (в древн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7d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отвращение высыхания водных бассейнов (озер), при этом скорость испарения воды уменьшается на 60-90% (США озеро Онтарио покрыто гексадеканол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508720" y="1700280"/>
            <a:ext cx="2840040" cy="695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853080" cy="1130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3124080" cy="13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A43FD-0359-4243-9012-B1468A9109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33228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Times New Roman"/>
              </a:rPr>
              <a:t>Расчет гиббсовской адсорбции из изотермы поверхностного натяжения (лабораторная работ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241440" cy="288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203640" y="1195560"/>
            <a:ext cx="56163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рафическое дифференцирование изотермы поверхностного натяжения: в нескольких точках изотермы проводят касательные и определяют тангенсы угла их наклона, которые соответствуют значениям производных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∂σ/∂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в этих точк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788000" y="3213000"/>
                <a:ext cx="2952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580000" y="4149720"/>
            <a:ext cx="3097440" cy="2405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68360" y="4221000"/>
                <a:ext cx="48956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14320" y="547092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ают зависимос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90BD7-B7FF-42C8-9E6E-A61A85A935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7:13:12Z</dcterms:created>
  <dc:creator>Admin</dc:creator>
  <dc:description/>
  <dc:language>en-US</dc:language>
  <cp:lastModifiedBy>Администратор</cp:lastModifiedBy>
  <dcterms:modified xsi:type="dcterms:W3CDTF">2011-06-23T14:05:51Z</dcterms:modified>
  <cp:revision>89</cp:revision>
  <dc:subject/>
  <dc:title>Слайд 1</dc:title>
</cp:coreProperties>
</file>