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31EA-BD3E-4715-9C5E-C09A744B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DC6F-5820-46FB-8D94-2090D321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156D-0464-48A8-B58D-37101932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82AF-FF87-4C7A-BD47-C12E62F5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7A61-0F2B-428A-B814-9CEC601E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C5B0-3D18-410A-85AC-71048FFA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CE82-2A4D-4DD5-88DF-C4215BEB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2485-18D9-45F4-B327-38DE7EB0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9F05-597D-48B4-807D-F2513837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CEAF-070D-43AC-9EDA-5E40BC21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76D0-CFB5-44FC-BF29-3E0D1F45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CEEE-7495-433C-BBCC-9D8DA861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FA82-3554-4D14-BEA1-B5E82EC8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3589-6F62-44DC-A0D6-870BDB3F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B3F7-66B2-47A3-ADFA-CB0A4CE6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EF01-508B-468E-A219-09597B39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04FE-F2EF-4E1E-B4E8-17D08BE1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2EA5-E8D2-4EFE-B7DE-E493607A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216E-F2EB-4033-BDD2-479794F2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5732-4877-4172-BBE0-5841FE3F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7599-989D-4653-BB44-163B0409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8F8-E21C-45D5-BDFC-E508C196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4EBA-D87C-4986-8E73-71C8F361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AA9A-05F5-4302-807C-991941FB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8B28-7F48-4F00-8C82-F96270B663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690A-46A0-4A04-954A-B4121FF373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Теория полимолекулярной адсорбции Полян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627280" y="1197000"/>
            <a:ext cx="4032360" cy="3040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44344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практике, особенно при адсорбции паров, встречаютс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бразны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термы, что свидетельствует о взаимодействии адсорбированных слоев молекул с адсорбатом, когда адсорбированные молекулы наслаиваются друг на дру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16000" y="14652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временная обобщенная теория полимолекулярной адсорбции была развита в 1935-1940 гг. Брунауэром, Эмметом и Теллером. Эта теория получила название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теории БЭ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о первым буквам имен авто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1821600"/>
            <a:ext cx="864216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Основные по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поверхности адсорбента имеется определенное число энергетически равноценных активных цент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Каждая молекула предыдущего слоя представляет собой возможный активный центр для адсорбции молекулы следующего адсорбционного слоя (адсорбция многослойн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ервый слой адсорбата образуется в результате действия физических сил между адсорбентом и адсорбатом, последующие в результате конденс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се молекулы во втором и более далеких слоях ведут себя подобно молекулам жидк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5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озможно построение последующих слоев при незаполненном перв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B7B7-ED90-46A7-946D-0CDC44050C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87280" y="248040"/>
            <a:ext cx="756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о теории БЭТ адсорбированная фаза может быть представлена как совокупность адсорбционных комплексов – цепей молекул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95640" y="1268280"/>
            <a:ext cx="4105440" cy="1152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50920" y="235476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цесс адсорбции можно представить в виде последовательных квазихимических реак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411280" y="3284640"/>
                <a:ext cx="4175280" cy="16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А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В</m:t>
                        </m:r>
                        <m:r>
                          <m:t xml:space="preserve">↔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  <m:r>
                              <m:t xml:space="preserve">;</m:t>
                            </m:r>
                          </m:e>
                        </m:ba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В</m:t>
                        </m:r>
                        <m:r>
                          <m:t xml:space="preserve">↔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АВ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bar>
                        <m:r>
                          <m:t xml:space="preserve">;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АВ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bar>
                        <m:r>
                          <m:t xml:space="preserve">+</m:t>
                        </m:r>
                        <m:r>
                          <m:t xml:space="preserve">В</m:t>
                        </m:r>
                        <m:r>
                          <m:t xml:space="preserve">↔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АВ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bar>
                        <m:m>
                          <m:mr>
                            <m:e/>
                            <m:e/>
                          </m:mr>
                        </m:m>
                        <m:m>
                          <m:mr>
                            <m:e>
                              <m:r>
                                <m:t xml:space="preserve">и</m:t>
                              </m:r>
                            </m:e>
                            <m:e/>
                          </m:mr>
                        </m:m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403280" y="5300640"/>
                <a:ext cx="327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А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979640" y="5734080"/>
                <a:ext cx="5763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764280" y="5329440"/>
            <a:ext cx="7081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адсорбционный центр;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олекул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сорба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дсорбционный комплекс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A152-C323-40AA-924A-ABFA8CE3C2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16000" y="76392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.Брунауэр, П.Эммет и Е.Теллер вывели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уравнение полимолекулярной адсорбции БЭ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619280" y="4005360"/>
                <a:ext cx="60609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К</m:t>
                        </m:r>
                      </m:num>
                      <m:den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m>
                      <m:mr>
                        <m:e/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ж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пара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m>
                      <m:mr>
                        <m:e/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K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782720" y="2060640"/>
                <a:ext cx="579456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С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476360" y="1844640"/>
          <a:ext cx="6192720" cy="1655640"/>
        </p:xfrm>
        <a:graphic>
          <a:graphicData uri="http://schemas.openxmlformats.org/drawingml/2006/table">
            <a:tbl>
              <a:tblPr/>
              <a:tblGrid>
                <a:gridCol w="6192720"/>
              </a:tblGrid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E284-22B2-4E58-A552-84053887A4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42920" y="35280"/>
            <a:ext cx="777708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Расчет параметров адсорбции по уравнению БЭ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ля расчета параметров адсорбции по теории БЭТ уравнение полимолекулярной адсорбции приводят к линейному вид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849320" y="1341360"/>
                <a:ext cx="457992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С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06480" y="2565360"/>
                <a:ext cx="45957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p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С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С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1979280" y="3558240"/>
            <a:ext cx="408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еревернем полученное уравн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165400" y="4005360"/>
                <a:ext cx="43797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А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С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2627280" y="4998240"/>
            <a:ext cx="33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ведем к линейному вид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924200" y="5516640"/>
                <a:ext cx="529560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А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С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С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С</m:t>
                        </m:r>
                      </m:den>
                    </m:f>
                    <m:r>
                      <m:t xml:space="preserve">p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5C3E-4A8A-4CB1-9BB2-06609F7403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964160" y="259560"/>
            <a:ext cx="55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роим график линейной формы уравнения БЭ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425680" y="765000"/>
                <a:ext cx="494028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А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С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С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С</m:t>
                        </m:r>
                      </m:den>
                    </m:f>
                    <m:r>
                      <m:t xml:space="preserve">p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759640" cy="458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9567-523A-4A04-BC66-DE403D10C1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58920" y="285840"/>
            <a:ext cx="7416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тории БЭТ основан стандартный метод измерения удельной поверхност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уд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адсорбентов, катализаторов, порошков и др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 экспериментальным данным находят величину А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затем рассчитывают удельную поверхность адсорбен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2997360"/>
            <a:ext cx="828036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дсорбаты - инертные газы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 др.), которые характеризуются слабым межмолекулярным взаимодействием на поверхности адсорбен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ля увеличения адсорбции таких газов ее ведут при низких температурах, откуда и частое название метода БЭТ – метод низкотемпературной адсорб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276720" y="2421000"/>
                <a:ext cx="28080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0E05-F01A-4EE4-8156-DF7941536E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32000" y="6732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Применение уравнения БЭТ к описанию изотерм адсорбции различного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7280" y="2132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60280" y="1916280"/>
                <a:ext cx="37242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С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897440" y="1916280"/>
                <a:ext cx="41734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С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С</m:t>
                            </m:r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95280" y="2826360"/>
            <a:ext cx="842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. 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Область низких относительных давлений:   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р/р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&lt;&lt; 1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,   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С &gt;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612800" y="3284640"/>
                <a:ext cx="534060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С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С</m:t>
                            </m:r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С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p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С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11280" y="5083560"/>
            <a:ext cx="453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области малых относительных давлений уравнение БЭТ переходит в уравнение Лэнгмю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651640" y="4581360"/>
          <a:ext cx="2376360" cy="21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2376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F076-C49A-47A1-A9D2-3683F0667A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339560" y="236160"/>
            <a:ext cx="7361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. 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Область высоких относительных давлений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ru-RU" sz="2200" spc="-1" strike="noStrike">
                <a:solidFill>
                  <a:srgbClr val="3333cc"/>
                </a:solidFill>
                <a:latin typeface="Times New Roman"/>
              </a:rPr>
              <a:t>р/р</a:t>
            </a:r>
            <a:r>
              <a:rPr b="0" i="1" lang="en-US" sz="22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3333cc"/>
                </a:solidFill>
                <a:latin typeface="Times New Roman"/>
              </a:rPr>
              <a:t>&gt;&gt; 1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45880" y="594360"/>
            <a:ext cx="321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)  при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 &gt; 1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,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 &gt; 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042920" y="1197000"/>
          <a:ext cx="2449440" cy="23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2449440" cy="23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4067280" y="1339920"/>
            <a:ext cx="4897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Изотерма адсорбции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типа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нергия взаимодействия адсорбата и адсорбента больше, чем энергия взаимодействия между молекулами адсорба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15480" y="3474000"/>
            <a:ext cx="301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б) при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 &lt; 1 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 &lt; 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971640" y="4149720"/>
          <a:ext cx="2736720" cy="237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4149720"/>
                    <a:ext cx="27367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4067280" y="3573360"/>
            <a:ext cx="48974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Изотерма адсорбци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типа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нергия взаимодействия между молекулами адсорбата больше, чем энергия взаимодействия между адсорбентом адсорбат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блюдается в случае адсорбции сильнополярного адсорбата на неполярном адсорбенте (адсорбция паров воды на активированном угл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1DC8-49C9-4B4A-B887-7B203808D6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042920" y="643680"/>
            <a:ext cx="770580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3600" indent="355680" algn="ctr">
              <a:lnSpc>
                <a:spcPct val="100000"/>
              </a:lnSpc>
              <a:tabLst>
                <a:tab algn="l" pos="0"/>
                <a:tab algn="l" pos="93600"/>
                <a:tab algn="l" pos="9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граничения теории БЭ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0" indent="355680" algn="just">
              <a:lnSpc>
                <a:spcPct val="100000"/>
              </a:lnSpc>
              <a:tabLst>
                <a:tab algn="l" pos="0"/>
                <a:tab algn="l" pos="93600"/>
                <a:tab algn="l" pos="9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Уравнение БЭТ хорошо выполняется при относительных давлениях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3600" indent="355680" algn="just">
              <a:lnSpc>
                <a:spcPct val="100000"/>
              </a:lnSpc>
              <a:tabLst>
                <a:tab algn="l" pos="0"/>
                <a:tab algn="l" pos="93600"/>
                <a:tab algn="l" pos="9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3600" indent="355680" algn="just">
              <a:lnSpc>
                <a:spcPct val="100000"/>
              </a:lnSpc>
              <a:tabLst>
                <a:tab algn="l" pos="0"/>
                <a:tab algn="l" pos="93600"/>
                <a:tab algn="l" pos="9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3600" indent="355680" algn="just">
              <a:lnSpc>
                <a:spcPct val="100000"/>
              </a:lnSpc>
              <a:tabLst>
                <a:tab algn="l" pos="0"/>
                <a:tab algn="l" pos="93600"/>
                <a:tab algn="l" pos="9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3600" indent="35568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"/>
              <a:tabLst>
                <a:tab algn="l" pos="93600"/>
                <a:tab algn="l" pos="9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сли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р/р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&lt; 0,05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то отклонения связаны с неоднородностью поверх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3600" indent="35568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"/>
              <a:tabLst>
                <a:tab algn="l" pos="93600"/>
                <a:tab algn="l" pos="9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сли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р/р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&gt; 0,3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то отклонения связаны с боковыми  взаимодействиями между молекулами адсорбата и капиллярной конденсаци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3600" indent="355680" algn="just">
              <a:lnSpc>
                <a:spcPct val="100000"/>
              </a:lnSpc>
              <a:tabLst>
                <a:tab algn="l" pos="0"/>
                <a:tab algn="l" pos="93600"/>
                <a:tab algn="l" pos="9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Уравнение применимо для адсорбции паров, но не применимо для адсорбции газов (пар – жидкость конденсируется, газ – не конденсируется в жидкость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3600" indent="355680" algn="just">
              <a:lnSpc>
                <a:spcPct val="100000"/>
              </a:lnSpc>
              <a:tabLst>
                <a:tab algn="l" pos="0"/>
                <a:tab algn="l" pos="93600"/>
                <a:tab algn="l" pos="9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Уравнение не описывает изотерм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тип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564000" y="1844640"/>
                <a:ext cx="23032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&lt;</m:t>
                    </m:r>
                    <m:r>
                      <m:t xml:space="preserve">p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2CCD-90E8-417B-A3B0-F104F5CFE1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11760" y="835560"/>
            <a:ext cx="52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Адсорбция на пористых адсорбен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035800"/>
            <a:ext cx="7632720" cy="38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ристые адсорбент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твердые тела, внутри которых имеются поры, обуславливающие наличие внутренней межфазной поверх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дсорбция на пористых телах значительно выше адсорбции на ровной поверхности. Увеличение пористости сорбента приводит к увеличени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уд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 обеспечивает конденсацию пара при давлениях меньших, чем для ровной поверх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ристые сорбенты широко применяются в промышленности: в гетерогенном катализе, при улавливании выбросов предприятий (экология)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AAF9-F2E1-44B7-B72C-A1CA6E2741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1011240"/>
            <a:ext cx="82087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Основные положени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поверхности адсорбента нет активных цен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дсорбция обусловлена физическими силами. Основной вклад вносят дальнодействующие дисперсионные силы аддитивные и не зависящие от темпера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дсорбционные силы действуют на больших расстояниях, что приводит к образованию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полимолекулярного слоя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мере удаления от поверхности действие адсорбционных сил уменьшается и на некотором расстоянии практически становится равным ну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дсорбционные силы не зависят от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ктически все адсорбированное вещество на поверхности адсорбента находится в жидком состоя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F05-22B2-423D-988E-16C2DDC704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95280" y="2131920"/>
            <a:ext cx="8352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43488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акропористые тела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&gt; 200 нм), для количественного описания используют уравнения Лэнгмюр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43488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езопористые (переходнопористые) тела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 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2 – 200 нм), в порах - полимолекулярная адсорбция, которая заканчивается капиллярной конденсацией (силикагели, алюмогели), процесс адсорбции описывается теориями Поляни и БЭ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760" indent="43488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икропористые тела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0,5 – 2 нм) – молекулярные сита (цеолиты, алюмосиликаты, активированные угли, обладающие строго регулярной кристаллической структурой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76360" y="4762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Классификация пористых сорбентов по размерам п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М.М. Дубин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6A9E-24C6-42FD-B1D4-E0745AEA95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21040" y="691200"/>
            <a:ext cx="75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Капиллярная конденсация на пористых адсорбен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03280" y="1339560"/>
            <a:ext cx="7416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ры тонкопористых адсорбентов в результате капиллярной конденсации заполняются молекулами адсорбата уже в области малых относительных давлений паров, так что адсорбция достигает преде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пиллярная конденсац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условлена наличием пор в адсорбен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асто сопровождает физическую адсорбци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меет место тогда, когда адсорбат смачивает стенки поры (вогнутый мениск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SzPct val="150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характеризуется наличием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тли гистерезис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на изотерме адсорб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763640" y="5013360"/>
                <a:ext cx="25210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/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е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508720" y="5157720"/>
                <a:ext cx="23032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/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е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σ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1765800" y="6091920"/>
            <a:ext cx="21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сферическая пор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64720" y="6091920"/>
            <a:ext cx="25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цилиндрическая пор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967F-A12D-46CB-95D8-D1BD76F291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693440" y="229320"/>
            <a:ext cx="308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Конусообразная п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76360" y="765000"/>
            <a:ext cx="2160720" cy="19447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88000" y="620640"/>
            <a:ext cx="2665440" cy="22622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50920" y="2976480"/>
            <a:ext cx="8713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смачивании адсорбатом стенок поры, на ее стенках образуется адсорбционная пленка жидкости и в самой узкой части пор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гнутый менис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.к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,  пар конденсируется, пора начинает заполня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мере заполнения поры радиус кривизны увеличивается, поэтому для дальнейшего заполнения поры необходимо увеличить давление (кривая изотермы адсорбции имеет наклон вправо) – пора заполня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вся пора заполнена жидким адсорбатом, дальнейшее увеличение давления не влияет на адсорбцию – на изотерме предельный учас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уменьшении давления наблюдается явление десорбции – адсорбат уходит от поверхности адсорбента. Процесс десорбции идет в обратном направлении и описывается той же изотер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258920" y="3860640"/>
                <a:ext cx="9367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/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7FF-B808-472A-ABF9-A93D96E0BB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699920" y="302040"/>
            <a:ext cx="453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2. Цилиндрическая закрытая пор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1400400" cy="2303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2808360" cy="23382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39640" y="3943800"/>
            <a:ext cx="79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.к. радиус кривизны цилиндрической поры не меняется, то пора заполняется при определенном постоянном значении давления пара (на изотерме прямая вертикальная лин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цесс десорбции описывается той же изотер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0D84-8BA9-44AC-9CD2-8483E03F04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986840" y="332280"/>
            <a:ext cx="464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3. Цилиндрическая открытая пор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1425600" cy="21607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932360" y="836640"/>
            <a:ext cx="2592360" cy="2187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24000" y="3573360"/>
                <a:ext cx="194436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/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е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182160" y="4507560"/>
            <a:ext cx="245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сферический менис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68360" y="4941720"/>
                <a:ext cx="1871640" cy="7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/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е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σ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180720" y="5875920"/>
            <a:ext cx="279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цилиндрический менис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87640" y="3026520"/>
            <a:ext cx="57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авление пара над цилиндрической поверхностью больше, чем над сферической, то заполнение поры будет происходить при большем давлении пара, чем если бы пора имела шарообразный менис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сорбция начнется со сферических менисков при меньшем давлении. Опорожнение капилляра будет происходить при меньшем давлении, чем его заполн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является петля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капиллярно-конденсационного гистерезис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отклонение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зотермы адсорбции от изотермы десорбц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C24F-0B69-4939-A3EE-A071F946FA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841040" y="259200"/>
            <a:ext cx="347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4. Бутылкообразная пора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2252880" cy="2448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3241440" cy="2637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68360" y="3754440"/>
            <a:ext cx="8209080" cy="24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олнение поры начинается со сферического мениска с радиусом кривизны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Десорбция идет со сферического мениска радиус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 как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 то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дес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&lt; р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адс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орожнение капилляра будет происходить при меньшем давлении, чем его заполнение, появляется петл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апиллярно-конденсационного гистерези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432D-0CFD-410A-8577-C18D098B98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788000" y="498600"/>
            <a:ext cx="410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Реальные пористые сорбенты имеют поры различных размеров и форм, поэтому на изотермах адсорбции всегда имеются петли гистерезиса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2676600" cy="2286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39640" y="2907720"/>
            <a:ext cx="820908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льнейшие представления об адсорб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ктивные центры адсорбента энергетически не равноценн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зможна одновременно физическая и химическая адсорб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олекулы адсорбата взаимодействуют друг с другом на поверхности адсорбен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отермы адсорбц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аркинса и Юр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Хилла –де Бур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румкина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0827-7A94-47CE-B800-1555ACEBA9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1760760"/>
            <a:ext cx="84978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езультате взаимодействия с поверхностью газ сжимается до давления насыщенного пар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переходит в жидк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этом возникае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дсорбционный объ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жидкост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ад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й связан с величиной адсорбции соотношени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адс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= А ·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сорбционный объем (толщин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может быть представлен рядом эквипотенциальных поверхностей, каждая из которых соответствует определенному значению адсорбционного потенциала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DF4-EA33-46A9-96F3-E3DEBF8034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42920" y="729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4032360" cy="3341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67280" y="1667160"/>
            <a:ext cx="475272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Адсорбционный потенциал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бота обратимого изотермического процесса по переносу 1 моль адсорбата из данной точки адсорбционного объема в газовую фаз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4185000"/>
            <a:ext cx="8209080" cy="15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Работа по переносу молекулы из точки 1 больше, чем из точки 2, следовательно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Максимальный адсорбционный потенциал наблюдается вблизи поверхности адсорбен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177-F280-4EE8-9071-0A3EB998B2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205956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сматривая молекулы адсорбата как идеальный газ, можно записать, что адсорбционный потенциал равен работе расширения или сжатия идеального га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55640" y="3357720"/>
                <a:ext cx="784872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жатия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p</m:t>
                        </m:r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Vdp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p</m:t>
                        </m:r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p</m:t>
                        </m:r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771640" y="5013360"/>
                <a:ext cx="230364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3" name=""/>
          <p:cNvGraphicFramePr/>
          <p:nvPr/>
        </p:nvGraphicFramePr>
        <p:xfrm>
          <a:off x="2268360" y="4941720"/>
          <a:ext cx="3598560" cy="1190880"/>
        </p:xfrm>
        <a:graphic>
          <a:graphicData uri="http://schemas.openxmlformats.org/drawingml/2006/table">
            <a:tbl>
              <a:tblPr/>
              <a:tblGrid>
                <a:gridCol w="3598560"/>
              </a:tblGrid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D0D-8D12-45D8-9C49-7F2EC61BE9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445320"/>
            <a:ext cx="748836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висимость адсорбционного потенциала (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адсорбционного объем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адс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ни назвал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характеристической криво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2781360"/>
            <a:ext cx="3384720" cy="2825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708360" y="2276640"/>
            <a:ext cx="511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Характеристическая кривая не зависит от температуры и индивидуальна для каждого вида адсорбента для сходных адсорба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6000" y="3859920"/>
            <a:ext cx="168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219640" y="4797360"/>
                <a:ext cx="201636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ε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дс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742-7D5C-440B-A1BC-2A24F474CC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87280" y="332280"/>
            <a:ext cx="756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еория Поляни позволяет рассчитывать изотермы адсорбции различных адсорбатов на одних и тех же адсорбентах при любой температу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887640" cy="2836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067280" y="1495440"/>
            <a:ext cx="4752720" cy="29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сть имеется экспериментальная зависимость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 температур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Нужно рассчитать и построить изотерму адсорбции при температур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этог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Строим характеристическую кривую: значение 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ад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читываем по уравнениям при температур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211640" y="4221000"/>
                <a:ext cx="18003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877080" y="4508640"/>
                <a:ext cx="165564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адс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395280" y="5058000"/>
            <a:ext cx="84963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Точки характеристической кривой подставляем в уравнения при температур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получаем значени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Аналогично рассчитываем значение адсорбци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AC3-75F1-40CA-8400-61DE6AF78D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47640" y="282960"/>
            <a:ext cx="72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дсорбционные потенциалы для разных адсорбатов на одном и том же адсорбенте находятся в постоянном соотношении. Это соотношение называется коэффициентом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аффинност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(близости, сродства 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332000" y="2133720"/>
                <a:ext cx="129708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203640" y="1914840"/>
            <a:ext cx="5616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сли имеется изотерма адсорбции и известно значение коэффициента аффинности для одного адсорбата, то можно построить изотерму адсорбции для другого адсорба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393228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еория Полян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 дает аналитического выражения для изотермы адсорб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зволяет вычислить адсорбцию любого адсорбата при любой температур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годна для описания адсорбции на пористых адсорбентах, в порах которых происходит конденсация пар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BEF-6BF2-47D5-9C8E-6410719935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70840" y="168480"/>
            <a:ext cx="792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Дальнейшие представления о многослойной адсорб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Теория БЭТ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99108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 1915-1917 гг. было получено более 30 адсорбентов, на которых получено, пять основных типов изотерм адсорб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9280" y="1844640"/>
          <a:ext cx="2664000" cy="23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44640"/>
                    <a:ext cx="266400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03640" y="1844640"/>
          <a:ext cx="2448000" cy="23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844640"/>
                    <a:ext cx="24480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156360" y="1773360"/>
          <a:ext cx="2519280" cy="245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6360" y="1773360"/>
                    <a:ext cx="2519280" cy="24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42920" y="4302000"/>
          <a:ext cx="2735280" cy="255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4302000"/>
                    <a:ext cx="273528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43280" y="4303800"/>
          <a:ext cx="2664000" cy="2581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3280" y="4303800"/>
                    <a:ext cx="26640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E476-4818-46D0-917A-82BED92D28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6T18:52:42Z</dcterms:created>
  <dc:creator>Admin</dc:creator>
  <dc:description/>
  <dc:language>en-US</dc:language>
  <cp:lastModifiedBy>Администратор</cp:lastModifiedBy>
  <dcterms:modified xsi:type="dcterms:W3CDTF">2010-10-14T02:56:29Z</dcterms:modified>
  <cp:revision>54</cp:revision>
  <dc:subject/>
  <dc:title>Слайд 1</dc:title>
</cp:coreProperties>
</file>