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013-8588-470D-B302-7C33813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330-65EE-4119-BB5D-2B32E64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B49-B7C7-4169-844A-A516E60A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08B-DD25-41E8-8942-CE96FCE5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47AF-0704-4EF5-A3D8-D0D5575F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160-B5AF-4600-BF29-41569C35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DB7-C9E6-41ED-8805-6189F04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16BA-0F68-43CE-B7C5-85B5564E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E3F5-F692-4453-9EA4-A7C1F46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12EF-C784-4964-8B29-0B69611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B14-E8D2-407E-9050-EA8CA46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846-8876-4128-A15F-3DAA489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58A2-DCEE-4A5A-9F51-30E5A3B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E4B-6D93-4071-B93A-8B23FD5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9CB0-E10E-4BCC-BBD9-E18DDC56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E0A-6EBD-41F3-AD9C-FDE5ECB0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EC13-1A12-4B56-9375-2442A982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937-029C-485B-B266-3EE9F00F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E3A-08FA-4E3B-A5D3-E35AFC09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775-7D13-46AF-8910-3C9F124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B3A-205D-408B-A6A1-DD05FC33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E37-D7F9-4706-990F-E1354FBA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843-95EB-4951-BDE2-6B2A1837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C44-34F6-41C9-901B-CB9050BC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8445-AC2E-42D1-B0C7-58BCCAF03B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EAA9-73C7-46B5-9E4D-A5AD043598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Times New Roman"/>
              </a:rPr>
              <a:t>Раздел </a:t>
            </a:r>
            <a:r>
              <a:rPr b="0" lang="en-US" sz="5800" spc="-1" strike="noStrike">
                <a:solidFill>
                  <a:srgbClr val="999900"/>
                </a:solidFill>
                <a:latin typeface="Times New Roman"/>
              </a:rPr>
              <a:t>III</a:t>
            </a:r>
            <a:r>
              <a:rPr b="0" lang="ru-RU" sz="5800" spc="-1" strike="noStrike">
                <a:solidFill>
                  <a:srgbClr val="999900"/>
                </a:solidFill>
                <a:latin typeface="Times New Roman"/>
              </a:rPr>
              <a:t>.</a:t>
            </a:r>
            <a:br>
              <a:rPr sz="5800"/>
            </a:br>
            <a:r>
              <a:rPr b="0" lang="ru-RU" sz="5800" spc="-1" strike="noStrike">
                <a:solidFill>
                  <a:srgbClr val="999900"/>
                </a:solidFill>
                <a:latin typeface="Times New Roman"/>
              </a:rPr>
              <a:t>Адсорбция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3215-7B22-4211-B827-2C29685B3C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9160" y="475200"/>
            <a:ext cx="25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пределению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51280" y="189000"/>
                <a:ext cx="1152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054440" y="1699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003480" y="1484280"/>
                <a:ext cx="24177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3059280" y="1413000"/>
          <a:ext cx="2592360" cy="1152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796000" y="169884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авнение адсорб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энгмюр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599200"/>
            <a:ext cx="8280360" cy="20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личина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виси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66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адсорбционных центров на единице поверхности или массы адсорбент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66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размеров молекул адсорбата, чем крупнее молекула, тем меньше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8160" y="5012280"/>
            <a:ext cx="40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адсорбции из раствор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580000" y="4724280"/>
                <a:ext cx="2376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К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190880" y="6041880"/>
            <a:ext cx="43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концентрация адсорб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61C-60F8-4B90-ACB2-274F1552FE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500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Анализ уравнения адсорбции Лэнгм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743280" cy="2933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3959280" cy="3084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3326040"/>
            <a:ext cx="3745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терма Лэнгмюра в координата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326040"/>
            <a:ext cx="3959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терма Лэнгмюра в координатах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θ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7000" y="4118760"/>
            <a:ext cx="48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ласть малых давлений 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&lt;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85200" y="4767120"/>
            <a:ext cx="147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=А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9760" y="4796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p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8080" y="4867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равнение Генр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6680" y="546588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ласть больших давлений 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&gt;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6062760"/>
            <a:ext cx="128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 = 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90520" y="6020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θ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53A-9669-4CDC-9BA2-7D13B112D7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51040" y="18792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Расчет констант в уравнении Лэнгм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636840"/>
            <a:ext cx="849780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станты в уравнении Лэнгмюра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рассчитывают графическим способом. Для этого уравнение Лэнгмюра приводят к линейному виду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a+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26920" y="1773360"/>
                <a:ext cx="22323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den>
                        </m:f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297680" y="2419920"/>
            <a:ext cx="145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лучаем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65200" y="3357720"/>
                <a:ext cx="59230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К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К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20920" y="4869000"/>
                <a:ext cx="31320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К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219640" y="4940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Лэнгмюр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линейной форм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71640" y="4941720"/>
          <a:ext cx="3960720" cy="126180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D9D-BDC8-4200-AE3E-1F061DF8A0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5905440" cy="387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50800" y="189000"/>
                <a:ext cx="2210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К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11280" y="1628640"/>
                <a:ext cx="1655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68360" y="4398840"/>
            <a:ext cx="849636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теории Лэнгмю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По теории Лэнгмюр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в действительност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0,03-0,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монослой полностью не образуетс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о теории адсорбция не зависит от температуры, на самом деле с увеличением температуры адсорбция уменьша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EA5-C338-4083-BB3B-9A9B1890F2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280" y="229320"/>
            <a:ext cx="81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Эмпирическое уравнение адсорбции Фрейндл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03640" y="765000"/>
                <a:ext cx="2376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24000" y="1974240"/>
            <a:ext cx="864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Физический смысл констан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значение адсорбции при парциальном давлении газа, равном единице (пр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=1, А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,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 ÷ 2,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характеризует степень отклонения изотермы адсорбции от прямой линии, 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,2 ÷ 0,7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364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онстанты уравнения Фрейндлиха из опытных данных определяют графически.  Для этого уравнение логарифмирую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700360" y="5300640"/>
                <a:ext cx="38894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2771640" y="765000"/>
          <a:ext cx="3097080" cy="86364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1BD-B9A2-42AC-88BD-B554A6BFB0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843280" y="189000"/>
                <a:ext cx="3024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11280" y="1411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ят график в координат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g 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g 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040360" cy="36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47D-899A-4C30-B687-AEB8463739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628920"/>
            <a:ext cx="87138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Times New Roman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66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вижущей силой адсорбции является стремление системы уменьшить свою поверхностную энергию за счет уменьшения поверхностного натя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дсорбция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цесс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амопроизвольного перераспределения компонентов системы между поверхностным слоем и объемной фаз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любой границе раздела существует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поверхностный слой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ереходная область от одной объемной фазы к другой. Поверхностный слой имеет очень малую толщину (всего несколько молекул), но в нем сосредоточен весь избыток поверхностной энер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днокомпонентных системах при формировании поверхностного слоя происходит изменение его структуры (сгущение, уплотнение), которые часто называют автоадсорбци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многокомпонентных системах в поверхностный слой предпочтительнее переходит тот компонент, который сильнее уменьшает межфазное (поверхностное) натя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1800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48B-756A-4FCA-836D-E97EC0EE4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8428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сорб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поглотитель) – вещество, на поверхности которого идет адсорб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сорб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щество, которое адсорбируется на поверхности адсорбента (перераспределяется на границе раздела ф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дсорбти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ещество, находящееся в объемной фазе, способное к адсорб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термодинамической точки зрения адсорб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амопроизвольный процесс выравнивания химических потенциалов в объеме системы и поверхностном с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B0A-F470-4507-9B68-FD13E1581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334440"/>
            <a:ext cx="86421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Times New Roman"/>
              </a:rPr>
              <a:t>Количественные способы выражения величины адсорб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1. Абсолютная адсорбция (А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количество вещества (моль) в поверхностном слое, приходящееся на единицу площади поверхности или единицу массы адсорбента (моль/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моль/г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2. Гиббсовская (избыточная) адсорбция (Г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избыточное число моль адсорбата в поверхностном слое  по сравнению с тем его количеством, который бы находился в адсорбционном объеме в отсутствие адсорбц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больших избытках адсорбата в поверхностном слое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, концентрацией адсорбтива в объеме фазы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можно пренебречь, величины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и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приблизительно рав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кспериментально определяют величин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097080" y="1844640"/>
                <a:ext cx="2732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32000" y="4149720"/>
                <a:ext cx="72770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бщ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B23-6CDA-4B1E-806E-6BE54E5A02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484280"/>
          <a:ext cx="8686800" cy="50976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адсорб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емосорб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словлена физическими силами (силами Ван-дер-Вааль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словлена химическими сил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плота адсорбции мала, 10-40 кДж/м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плота адсорбции велика, 40-400 кДж/м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повышением температуры часто уменьшается (преобладает процесс десорбц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ие температуры способствует процессу адсорбции (достигается Е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 специфична, слабо зависит от природы адсорб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фична, часто образуется поверхностное химическое соед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тима (что адсорбируется, то и десорбируется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 необра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локализованная (молекулы адсорбата способны перемещаться по поверхности адсорбент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кализованная (молекулы адсорбата связаны с адсорбентом за счет прочных химических связе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50920" y="168480"/>
            <a:ext cx="88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Times New Roman"/>
              </a:rPr>
              <a:t>Классификации адсорб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1. Классификация по типу взаимодействия адсорбата и адсорб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личают физическую адсорбцию, хемосорбцию и ионный об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8CD-E6D0-481D-955F-88A2C83EB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4035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емосорб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роцесс образования поверхностного химического соеди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имер: хемосорбция кислорода на угле, в результате окисления поверхностных атомов углерода образуются, различные поверхностные окс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71520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 существует четкой границы между физической адсорбцией и хемосорбцией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практике обычно: основная масса вещества связывается с адсорбентом слабо (физическая адсорбция), а небольшая часть прочно (хемосорб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59280" y="2205000"/>
          <a:ext cx="26082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205000"/>
                    <a:ext cx="26082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4000" y="5283720"/>
            <a:ext cx="8569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лассификация по природе границы разд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685800" algn="just">
              <a:lnSpc>
                <a:spcPct val="100000"/>
              </a:lnSpc>
              <a:buClr>
                <a:srgbClr val="999900"/>
              </a:buClr>
              <a:buFont typeface="Wingdings" charset="2"/>
              <a:buChar char="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вердое тело – г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685800" algn="just">
              <a:lnSpc>
                <a:spcPct val="100000"/>
              </a:lnSpc>
              <a:buClr>
                <a:srgbClr val="999900"/>
              </a:buClr>
              <a:buFont typeface="Wingdings" charset="2"/>
              <a:buChar char="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дкость - г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685800" algn="just">
              <a:lnSpc>
                <a:spcPct val="100000"/>
              </a:lnSpc>
              <a:buClr>
                <a:srgbClr val="999900"/>
              </a:buClr>
              <a:buFont typeface="Wingdings" charset="2"/>
              <a:buChar char="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вердое тело – жидкость (адсорбция из раствор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B69-3D30-4147-AE99-84E6DE93D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303280" cy="201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158920" cy="183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8360" y="4724280"/>
            <a:ext cx="2016000" cy="1787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700360" y="330840"/>
            <a:ext cx="644364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сновные экспериментальные зависимости адсорб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отерма адсорб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ависимость адсорбции от равновесного давления (концентрации) при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обара (изопикта) адсорб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ависимость адсорбции от температуры при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,  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1 – изобара при физической адсорб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– изобара при хемосорб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остера адсорб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зависимость давления от температуры при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403280" y="1341360"/>
                <a:ext cx="6476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7280" y="260280"/>
                <a:ext cx="10083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32000" y="256536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042920" y="472428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E27-3AFA-4ADF-ABD6-3C64E4B4E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25956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Адсорбция на границе твердое тело –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338480"/>
            <a:ext cx="856908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Times New Roman"/>
              </a:rPr>
              <a:t>Теория мономолекулярной адсорбции Лэнгмюра</a:t>
            </a:r>
            <a:r>
              <a:rPr b="1" lang="en-US" sz="2400" spc="-1" strike="noStrike">
                <a:solidFill>
                  <a:srgbClr val="666600"/>
                </a:solidFill>
                <a:latin typeface="Times New Roman"/>
              </a:rPr>
              <a:t> (1915 </a:t>
            </a:r>
            <a:r>
              <a:rPr b="1" lang="ru-RU" sz="2400" spc="-1" strike="noStrike">
                <a:solidFill>
                  <a:srgbClr val="666600"/>
                </a:solidFill>
                <a:latin typeface="Times New Roman"/>
              </a:rPr>
              <a:t>г.</a:t>
            </a:r>
            <a:r>
              <a:rPr b="1" lang="en-US" sz="2400" spc="-1" strike="noStrike">
                <a:solidFill>
                  <a:srgbClr val="66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ые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сорбция молекул адсорбата происходит на активных центрах, всегда существующих на поверхности адсорбента. Активные центры энергетически равноцен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Каждый активный центр может адсорбировать только одну молекулу адсорбата. В результате этого на поверхности адсорбента образуе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ономолекулярный сл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сорб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9999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олекулы адсорбата на поверхности не взаимодействуют друг с друг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Адсорбция носит динамический характер. Адсорбат удерживается на поверхности адсорбента некоторое время, а потом десорбиру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BF7-323B-4643-B246-19479F3E39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58320" y="-108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Вывод уравнения Лэнгм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6195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орость адсорбци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560" y="1340280"/>
            <a:ext cx="31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орость десорбции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40360" y="549360"/>
                <a:ext cx="2952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40360" y="1341360"/>
                <a:ext cx="1871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70160" y="19879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остоянии равновес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859280" y="1989000"/>
                <a:ext cx="3313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96600" y="278028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азим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51280" y="2565360"/>
                <a:ext cx="3384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79280" y="3614040"/>
            <a:ext cx="87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константа адсорбционного равновесия, характеризует энергию взаимодействия адсорбата и адсорбента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96280"/>
            <a:ext cx="431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им уравнение относительн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651640" y="4741920"/>
                <a:ext cx="2592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11280" y="609480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е адсорбции Лэнгмюра, выраженное через долю занятой поверхности адсорбент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64000" y="4724280"/>
          <a:ext cx="3095280" cy="1225440"/>
        </p:xfrm>
        <a:graphic>
          <a:graphicData uri="http://schemas.openxmlformats.org/drawingml/2006/table">
            <a:tbl>
              <a:tblPr/>
              <a:tblGrid>
                <a:gridCol w="3095280"/>
              </a:tblGrid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7BB-C668-4DAC-BF13-9F8E0F26ED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7:56:34Z</dcterms:created>
  <dc:creator>Admin</dc:creator>
  <dc:description/>
  <dc:language>en-US</dc:language>
  <cp:lastModifiedBy>Администратор</cp:lastModifiedBy>
  <dcterms:modified xsi:type="dcterms:W3CDTF">2010-09-29T01:07:12Z</dcterms:modified>
  <cp:revision>47</cp:revision>
  <dc:subject/>
  <dc:title>Слайд 1</dc:title>
</cp:coreProperties>
</file>