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75A4-BD72-4CA7-BEC3-6D217FC8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E08-12CF-4C16-A0F9-5C69D580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D21-FB1B-46A8-B232-090CE818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9B06-8FA6-4BFC-B35C-6510E9A2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7121-AE08-4D3C-BEC6-3139F0FF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83E3-3136-43FC-AC65-453A1E4A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372D-8795-4C83-B8DE-372E1ACF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EFD6-38FE-4419-AB61-9A821271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E84B-DBF4-47AE-9ED5-6740028B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F464-EC79-42EE-815E-86FFDCD6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CB0B-CDC4-4B15-85BB-A9DE3952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CFC-4B56-4A7F-9196-B22D76B2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2869-C032-40C6-A385-56182F3F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723A-29D7-4F71-BE6D-3B76DD43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C4E6-3CC4-4A64-9A45-F40967DA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89D1-9CFC-49D8-9595-E7FAE0D9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54CC-E993-461E-83A3-4B29E7D0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93F-0A6F-46D1-9A20-746A51D8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CDD-D07B-4940-8072-593C1519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188-3089-431C-B197-440A142F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847-149E-41F4-94D3-76313B01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C845-EEC5-491B-83B3-3A3738D6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9D9-2C33-4FA4-A70C-3FAFF63E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8AE-CE8D-4387-A1D9-E8EDDF79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FE47-CF31-4040-892B-772631FC90A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F992-4DE6-4DE3-9CA7-A3F9AB97123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7280" y="596880"/>
            <a:ext cx="7101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006666"/>
                </a:solidFill>
                <a:latin typeface="Times New Roman"/>
              </a:rPr>
              <a:t>Раздел </a:t>
            </a:r>
            <a:r>
              <a:rPr b="0" lang="en-US" sz="5200" spc="-1" strike="noStrike">
                <a:solidFill>
                  <a:srgbClr val="006666"/>
                </a:solidFill>
                <a:latin typeface="Times New Roman"/>
              </a:rPr>
              <a:t>II</a:t>
            </a:r>
            <a:r>
              <a:rPr b="0" lang="ru-RU" sz="5200" spc="-1" strike="noStrike">
                <a:solidFill>
                  <a:srgbClr val="006666"/>
                </a:solidFill>
                <a:latin typeface="Times New Roman"/>
              </a:rPr>
              <a:t>. Термодинамика поверхностных явлений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F27F-B0F2-4109-A5AE-133DDE2EF9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24000" y="41400"/>
            <a:ext cx="8424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Природа граничащих фаз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ерхностное натяжение  на границе двух жидкостей   зависит от их химической природы (полярности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Межфазное натяжение  на границе воды (</a:t>
            </a:r>
            <a:r>
              <a:rPr b="0" lang="el-GR" sz="2200" spc="-1" strike="noStrike">
                <a:solidFill>
                  <a:srgbClr val="006699"/>
                </a:solidFill>
                <a:latin typeface="Times New Roman"/>
              </a:rPr>
              <a:t>ε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 = 81) с жидкими 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органическими веществами</a:t>
            </a:r>
            <a:r>
              <a:rPr b="0" lang="ru-RU" sz="1800" spc="-1" strike="noStrike">
                <a:solidFill>
                  <a:srgbClr val="0066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68360" y="1916280"/>
          <a:ext cx="8244000" cy="2036520"/>
        </p:xfrm>
        <a:graphic>
          <a:graphicData uri="http://schemas.openxmlformats.org/drawingml/2006/table">
            <a:tbl>
              <a:tblPr/>
              <a:tblGrid>
                <a:gridCol w="2747880"/>
                <a:gridCol w="2747880"/>
                <a:gridCol w="274824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ещество (ж</a:t>
                      </a:r>
                      <a:r>
                        <a:rPr b="1" lang="en-US" sz="2400" spc="-1" strike="noStrike" baseline="-25000">
                          <a:solidFill>
                            <a:srgbClr val="006699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ε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σ</a:t>
                      </a:r>
                      <a:r>
                        <a:rPr b="1" lang="ru-RU" sz="2400" spc="-1" strike="noStrike" baseline="-25000">
                          <a:solidFill>
                            <a:srgbClr val="006699"/>
                          </a:solidFill>
                          <a:latin typeface="Times New Roman"/>
                        </a:rPr>
                        <a:t>вода/ж2</a:t>
                      </a: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, мДж/м</a:t>
                      </a:r>
                      <a:r>
                        <a:rPr b="1" lang="ru-RU" sz="2400" spc="-1" strike="noStrike" baseline="30000">
                          <a:solidFill>
                            <a:srgbClr val="006699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нзо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7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4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ороформ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8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илин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97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зо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4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324000" y="4127760"/>
            <a:ext cx="849600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ило Ребинде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чем больше разность полярностей жидкостей, тем больше поверхностное натяжение на границе их раздела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ило Антонова (1907)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жидкости ограниченно растворимы друг в друге, то поверхностное натяжение на границе ж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ж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авно разности между поверхностными натяжениями взаимно насыщенных жидкостей на границе их с воздухом или с их собственным паром: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411280" y="6021360"/>
                <a:ext cx="40323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Ж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Ж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Ж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Г</m:t>
                            </m:r>
                          </m:den>
                        </m:f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Ж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Г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EF1-DC06-46EE-807E-9D1042764A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50920" y="56520"/>
            <a:ext cx="8570880" cy="26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Влияние природы и концентрации растворенного вещества на поверхностное натяжени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ерхностное натяжение раствора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личается от поверхностного натяжения чистого растворителя σ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Зависимость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концентрации растворенного вещества 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ют 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</a:rPr>
              <a:t>изотермой поверхностного натяж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водных растворов различают несколько типов изотерм поверхностного натяжения.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3140280"/>
            <a:ext cx="4859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Изотермы поверхностного натяже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и 2 – поверхностно – инактивные вещества (ПИВ);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– поверхностно – активные вещества (ПАВ);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– мицеллообразующие (коллоидные) ПАВ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24000" y="2781360"/>
          <a:ext cx="338436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81360"/>
                    <a:ext cx="338436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0E2-6E47-4FBF-B32D-C4CC46D9E3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5280" y="118908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ая термодинамическая система стремиться уменьшить свою поверхностную энергию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быточная поверхностная энергия может уменьшиться за счет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620640" algn="just"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ньшения площади поверхности: сферическая форма капель (сглаживание поверхности), объединение частиц (коагуляция, агрегация, коалесценция)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620640" algn="just">
              <a:lnSpc>
                <a:spcPct val="100000"/>
              </a:lnSpc>
              <a:buClr>
                <a:srgbClr val="006699"/>
              </a:buClr>
              <a:buFont typeface="Wingdings" charset="2"/>
              <a:buChar char="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ньшения поверхностного натяжения: адсорбция, адгезия, смачивание, образование ДЭС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341520" y="2133720"/>
                <a:ext cx="2173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4E8-444B-4BF3-8DB6-A954C8C988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81880" y="251280"/>
            <a:ext cx="66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Поверхностное натяжение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Физический смысл поверхностного натяжени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37320" y="5879160"/>
            <a:ext cx="478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нутримолекулярное давление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6408720" cy="333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616120" y="4797360"/>
                <a:ext cx="3983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;</m:t>
                    </m:r>
                    <m:m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328-ED14-4F72-AA04-7B55A0A69F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24000" y="728640"/>
            <a:ext cx="8496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Энергетическое определение поверхностного натяжени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99"/>
                </a:solidFill>
                <a:latin typeface="Times New Roman"/>
              </a:rPr>
              <a:t>Поверхностное натяже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а обратимого изотермического процесса, затраченная на образование единицы площади поверхности раздела фаз: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Силовое определение </a:t>
            </a: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поверхностного натяжени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99"/>
                </a:solidFill>
                <a:latin typeface="Times New Roman"/>
              </a:rPr>
              <a:t>П</a:t>
            </a:r>
            <a:r>
              <a:rPr b="1" lang="ru-RU" sz="2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оверхностное натяжени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ла, направленная тангенциально (параллельно) к поверхности и приходящаяся на единицу длины периметра, ограничивающего эту поверхность. 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сущность – поверхностные молекулы стремятся уйти вглубь конденсированной фазы, тем самым, сжимая поверхность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203640" y="2349360"/>
                <a:ext cx="244800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δ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равн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C4AE-4C90-4C9C-86B1-DACFDCAEB3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0920" y="5065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Термодинамическое определение поверхностного натяжения</a:t>
            </a:r>
            <a:r>
              <a:rPr b="0" lang="en-US" sz="2200" spc="-1" strike="noStrike">
                <a:solidFill>
                  <a:srgbClr val="006699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116000" y="1628640"/>
                <a:ext cx="6624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d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dp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ϕ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1191240" y="2466000"/>
            <a:ext cx="45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постоянных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меем: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508200" y="2924280"/>
                <a:ext cx="24163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5505840"/>
            <a:ext cx="83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6699"/>
                </a:solidFill>
                <a:latin typeface="Times New Roman"/>
              </a:rPr>
              <a:t>Поверхностное натяжение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частная производная от любого термодинамического потенциала по площади межфазной поверхности при постоянных соответствующих параметрах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07960" y="4133880"/>
                <a:ext cx="805644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1C5-7695-44D1-A117-82C8124CBF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1627200"/>
            <a:ext cx="84247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Единицы измерения поверхностного натяжени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етическая единица измерения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/м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силовая 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/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ды при 293 К: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08000" y="3213000"/>
                <a:ext cx="54723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Н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О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num>
                      <m:den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006560" y="4340880"/>
            <a:ext cx="624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а размерность легко выводится из другой: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СИ: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Дж/м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= Н∙м/м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=Н/м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5767-9735-460F-8436-BC1D71E88C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50920" y="187920"/>
            <a:ext cx="86421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Влияние различных факторов на величину поверхностного натяжени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Химическая природа веществ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Значения поверхностного натяжения (удельной поверхностной энергии) некоторых веществ на границе с воздухом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68360" y="2276640"/>
          <a:ext cx="8130960" cy="3160440"/>
        </p:xfrm>
        <a:graphic>
          <a:graphicData uri="http://schemas.openxmlformats.org/drawingml/2006/table">
            <a:tbl>
              <a:tblPr/>
              <a:tblGrid>
                <a:gridCol w="2016000"/>
                <a:gridCol w="863640"/>
                <a:gridCol w="1368360"/>
                <a:gridCol w="1656000"/>
                <a:gridCol w="792000"/>
                <a:gridCol w="1434960"/>
              </a:tblGrid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ещество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Т, 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σ</a:t>
                      </a: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, мДж/м</a:t>
                      </a:r>
                      <a:r>
                        <a:rPr b="1" lang="ru-RU" sz="2000" spc="-1" strike="noStrike" baseline="30000">
                          <a:solidFill>
                            <a:srgbClr val="0066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ещество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Т, 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σ</a:t>
                      </a: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, мДж/м</a:t>
                      </a:r>
                      <a:r>
                        <a:rPr b="1" lang="ru-RU" sz="2000" spc="-1" strike="noStrike" baseline="30000">
                          <a:solidFill>
                            <a:srgbClr val="0066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лий (ж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бро (ж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3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нзо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8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2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Серебро (т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равьиная к-т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8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3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Железо (т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8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59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8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,96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Вольфрам (т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8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14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туть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8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3,5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Алмаз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8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00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50920" y="551556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дставлены величины удельной поверхностной энерги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4DA-29D8-4A02-850C-338165378A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9280" y="24156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Зависимость поверхностного натяжения от полярности (диэлектрической проницаемости) жидкости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8360" y="1268280"/>
          <a:ext cx="8244000" cy="2251080"/>
        </p:xfrm>
        <a:graphic>
          <a:graphicData uri="http://schemas.openxmlformats.org/drawingml/2006/table">
            <a:tbl>
              <a:tblPr/>
              <a:tblGrid>
                <a:gridCol w="4751280"/>
                <a:gridCol w="1657440"/>
                <a:gridCol w="18352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Вещество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ε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σ</a:t>
                      </a:r>
                      <a:r>
                        <a:rPr b="1" lang="ru-RU" sz="22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, мДж/м</a:t>
                      </a:r>
                      <a:r>
                        <a:rPr b="1" lang="ru-RU" sz="2200" spc="-1" strike="noStrike" baseline="30000">
                          <a:solidFill>
                            <a:srgbClr val="006699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этиловый эфир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2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нол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2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6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метилсульфоксид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9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а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75</a:t>
                      </a: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468360" y="4003920"/>
            <a:ext cx="8280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оверхностное натяжение меньше у неполярных жидкостей, имеющих слабые межмолекулярные связи, и больше у полярных жидкостей. 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Большим поверхностным натяжением обладают вещества, имеющие межмолекулярные водородные связи, например вода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7CA-EB96-43DB-A9F5-D0E3CFC2D0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24000" y="305280"/>
            <a:ext cx="856908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Температур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.к. с ростом температуры расстояние между молекулами увеличивается, то с увеличением температуры поверхностное натяжение индивидуальных жидкостей уменьшается: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я большинства неполярных жидкостей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висимость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σ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близка к линейной и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ражается уравнением: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температурный коэффициент 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верхностного натяжения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я многих веществ температурные коэффициенты поверхностного натяжения находятся в пределах от -0,1 до -0,2 мДж/(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)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1773360"/>
                <a:ext cx="1368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σ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Т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3355920" cy="3384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403280" y="3645000"/>
                <a:ext cx="19447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Δ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835280" y="4941720"/>
                <a:ext cx="1584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∂</m:t>
                    </m:r>
                    <m:r>
                      <m:t xml:space="preserve">σ</m:t>
                    </m:r>
                    <m:r>
                      <m:t xml:space="preserve">∂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0572-B0AA-4164-AE8A-9FB5D2DF1A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5:13:52Z</dcterms:created>
  <dc:creator>Admin</dc:creator>
  <dc:description/>
  <dc:language>en-US</dc:language>
  <cp:lastModifiedBy>Администратор</cp:lastModifiedBy>
  <dcterms:modified xsi:type="dcterms:W3CDTF">2010-09-21T12:21:42Z</dcterms:modified>
  <cp:revision>30</cp:revision>
  <dc:subject/>
  <dc:title>Слайд 1</dc:title>
</cp:coreProperties>
</file>