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A45-A271-47E1-87C3-2936EB25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3E9-3A3C-4B90-9B03-4995495F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429-40F7-4FB0-A4D2-5521961B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601-1FC3-4E3D-9386-5F425591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F79C-724B-4619-B360-389DDDB0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D070-1B76-4FFC-A9B4-7B5045F2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ABF5-9A8C-40B1-8832-B9EA7267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1C89-4100-47B9-83E1-32AE82D7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5953-E96A-4499-A02D-CFF0204D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27D4-98E9-41C6-BFB3-53B39DD9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6610-7727-4F54-80F3-A68D3276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16F-7A52-4E24-94A6-8F74B522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4CDF-C2F3-49BD-96B8-736BD744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CB3F-735A-488D-9067-F01567D7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052B-B407-410F-83E0-B324ABF7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C0DB-07E4-40E3-B254-9B0B9E93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16AB-9BC4-4AE2-962F-6C759294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0AE-DE4F-4801-9099-BE376440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869-6928-40AC-8AC8-B3DC4DFA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81E-B199-426A-A7D0-D55C2CB1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3FE-C1D7-4764-8AF5-A0A10C32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0E8-D8BE-4708-8757-14AF208E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C6E-3F01-4CD7-BB94-39B18E0A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8EE-B930-443F-8FF1-D36D6984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42EF-3C30-4106-8E09-597091AD5E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EB2A-DBAE-44EB-88EF-8757B3F1CE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6"/>
                </a:solidFill>
                <a:latin typeface="Times New Roman"/>
              </a:rPr>
              <a:t>Межмолекулярные и межфазные взаимодействия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5A37-AF98-4708-9FF7-EF08B9F7CE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95280" y="18756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Фло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лотац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метод обогащения полезных ископаемых, основанное на их различной смачиваемости (этим методом обогащается около 90% руд цветных металлов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4364280"/>
            <a:ext cx="828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имер 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Порошок кварца и серы высыпали на поверхность воды. Какое явление можно ожидать, если краевой угол смачивания для кварца 0°, а для серы 78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Т.к. для кварца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θ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° - полное смачивание, то кварц будет полностью смачиваться водой и будет оседать на дно емкости. Для серы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90° - неполное смачивание – порошок серы образует суспензию на поверхности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844640"/>
            <a:ext cx="8353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лучае пенной флотации через водную суспензию измельченной руды барботируют воздух, к пузырькам которого прилипают гидрофобные частицы ценного минерала (чистые металлы или их сульфиды), всплывающие затем на поверхность воды, и с образовавшейся пеной снимаются механически для дальнейшей переработки. Пустая порода (кварц, алюмосиликаты) хорошо смачивается водой и оседает во флотационных машин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361-16CD-40FA-B6EA-E0609945DC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1241280"/>
            <a:ext cx="813600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Коге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огез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притяжение атомов или молекул внутри отдельной фазы, обусловленное межмолекулярными и межатомными взаимодействиями различной прир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абота когез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- работа, затрачиваемая на разрыв тела по сечению, равному единице площад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492360" y="4292640"/>
                <a:ext cx="1727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39640" y="5352120"/>
            <a:ext cx="7993080" cy="8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еличи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часто называют прочностью на разрыв или когезионной прочност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417-E417-495A-8EE1-67EB6349D5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27000"/>
            <a:ext cx="756108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Адге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Адгезия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взаимодействие между разнородными конденсированными телами при их молекулярном контакт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чина адгез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молекулярное притяжение контактирующих веществ или их химическое взаимодейств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абота адгез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– работа, которую необходимо совершить для разделения двух контактирующих фаз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боту адгезии рассчитывают по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равнению Дюпр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627280" y="3660840"/>
                <a:ext cx="41054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539640" y="47329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менение адгезии: склеивание материалов, нанесение красок, покрытий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7B5-351E-4662-8387-1A35D5F634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95280" y="794160"/>
            <a:ext cx="7561440" cy="50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Растекание одной жидкости по поверхности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авило Гаркинс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растекание одной жидкости по поверхности другой происходит, если прилипание между двумя жидкостями больше, чем сцепление молекул растекающейся жидкост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эффициент растекания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&gt;0, то происходит растекание, ес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&lt;0, растекание не происхо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пособность к  растеканию зависит от когезии наносимой жидк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пример, многие органические вещества растекаются по поверхности воды, а вода, как правило, не растекается на поверхности органических вещ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686-30DC-46EC-9199-4B1207BC26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87920"/>
            <a:ext cx="7416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Смач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мачива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адгезия жидкости) – взаимодействие жидкости с твердым или другим жидким телом при наличии одновременного контакта трех несмешивающихся фаз, одна из которых обычно является газом (воздух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464000" cy="2313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8360" y="4046400"/>
            <a:ext cx="7632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условиях равновесия: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ТГ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= σ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ТЖ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+ σ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ЖГ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·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сю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916360" y="4797360"/>
                <a:ext cx="2735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Г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Ж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ЖГ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611280" y="5875920"/>
            <a:ext cx="778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лученное соотношение называют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законом Юнг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927-C956-42ED-9A46-100F8B3E26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8360" y="156600"/>
            <a:ext cx="748836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Анализ уравнения Ю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ТГ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σ</a:t>
            </a:r>
            <a:r>
              <a:rPr b="0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ТЖ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°- краевой угол острый -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чива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мер: вода на поверхности металла, покрытого оксидной пленк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ТГ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σ</a:t>
            </a:r>
            <a:r>
              <a:rPr b="0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ТЖ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 &gt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0° - краевой угол тупой -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смачива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мер: вода на парафине или тефло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608720" cy="188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68360" y="4221000"/>
            <a:ext cx="813600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Если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ТГ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= σ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ТЖ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0,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θ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90° - граница между смачиваемостью и несмачиваемост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Есл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ТГ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– σ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ТЖ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= σ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Ж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1  и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θ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° -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олное смачивание (растекание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капля растекается в тонкую пленку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мер: ртуть на поверхности свинца, очищенного от оксидной пле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D06-E76E-446D-B6B7-E627FDD352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11280" y="791280"/>
            <a:ext cx="734544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равило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лучше смачивает поверхность та жидкость, которая ближе по полярности к смачиваемому материал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 виду избирательного смачивания все твердые тела делят на две групп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 algn="just">
              <a:lnSpc>
                <a:spcPct val="100000"/>
              </a:lnSpc>
              <a:buClr>
                <a:srgbClr val="6600cc"/>
              </a:buClr>
              <a:buFont typeface="Wingdings" charset="2"/>
              <a:buChar char="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Гидрофильные (олеофобны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атериал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лучше смачиваются водой, чем неполярными углеводородами: кварц 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малахит 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7°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иликаты, карбонаты, оксиды и гидроксиды метал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542880" algn="just">
              <a:lnSpc>
                <a:spcPct val="100000"/>
              </a:lnSpc>
              <a:buClr>
                <a:srgbClr val="6600cc"/>
              </a:buClr>
              <a:buFont typeface="Wingdings" charset="2"/>
              <a:buChar char="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Гидрофобные (олеофильные) материалы 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учше смачиваются неполярными жидкостями, чем водой: парафин   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= 106°)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ефлон 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120°), графит, уго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940-6CC5-4316-9421-AB06BC0E19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170280"/>
            <a:ext cx="7632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Связь краевого угла смачивания с работой адге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ТГ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+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ЖГ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ТЖ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равнение Дюп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сюда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ТГ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ТЖ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Ж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ставим в уравнение Юнг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619280" y="2781360"/>
                <a:ext cx="626580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Г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Ж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ЖГ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ЖГ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ЖГ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ЖГ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250920" y="4356360"/>
            <a:ext cx="864216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57120" algn="just">
              <a:lnSpc>
                <a:spcPct val="100000"/>
              </a:lnSpc>
              <a:buClr>
                <a:srgbClr val="6600cc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gt; 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Ж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  то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&gt; 0 ,      смачива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100000"/>
              </a:lnSpc>
              <a:buClr>
                <a:srgbClr val="6600cc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Ж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    то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&lt; 0 ,   несмачива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вердые тела лучше смачивают неполярные жидк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865-EC4E-4B54-BAF0-1FF0F2991B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343800"/>
            <a:ext cx="75614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Влияние шероховатости на смач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ерхность реальных твердых тел шероховата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ш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г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042920" y="3500280"/>
                <a:ext cx="3024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ш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395280" y="4450320"/>
            <a:ext cx="8353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мачивани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θ &gt; 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 шероховатость улучшает смачивани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смачивани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шероховатость улучшает несмачи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826920" y="2060640"/>
                <a:ext cx="19447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ш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гл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3494520" y="2325600"/>
            <a:ext cx="48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где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коэффициент шероховат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03600" y="3573360"/>
            <a:ext cx="390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равнение Венцеля - Деряг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823-E840-4443-A901-C4E0466561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8:11:27Z</dcterms:created>
  <dc:creator>Admin</dc:creator>
  <dc:description/>
  <dc:language>en-US</dc:language>
  <cp:lastModifiedBy>Администратор</cp:lastModifiedBy>
  <dcterms:modified xsi:type="dcterms:W3CDTF">2010-09-08T02:05:29Z</dcterms:modified>
  <cp:revision>31</cp:revision>
  <dc:subject/>
  <dc:title>Слайд 1</dc:title>
</cp:coreProperties>
</file>