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2AA-D041-4CB3-AD67-690D18A9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978-4E18-4B97-8056-456F8124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499-BE62-4CF2-8AF8-94A8D0C7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4FA-E882-4388-A2BD-48DF54F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E52-72B8-4307-88B5-6C05427A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AF6E-91BE-49DE-93A1-D2AE53BA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5059-F350-40DE-968C-2E9BDFE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427-88EE-4FF4-B8DB-5534FD5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A846-5EEC-447E-B2B2-95EC802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1B51-A52A-4995-B6D1-1B4B9BD6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6EF-AD06-4B28-BC26-5A2A91ED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8B4-85A8-4A9F-B8D3-BF36BD5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3AE-E425-4845-94EC-52FCF15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CE2E-22B0-47D9-8A72-72B84655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F38-D909-45E2-9210-73093A9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74F-14B4-40AE-9BFC-2D344ED4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DDDB-0A89-44C2-A8D5-D0FDFE22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AA2-D016-4B5D-BCE5-32601DA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E22-5B08-42E5-B14F-FAD09EE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157-29F0-4A3F-897D-1B22FA7B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E37-AEA7-4FD0-92BF-5E7CB85F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449-CFC6-4DF6-919E-FEFD6D0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90E-DC1B-4F84-B166-3442F84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49E-D340-41AE-B232-9CF5DFF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7B31-0FBE-4CC3-A08F-06CDDFF3E0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ED1-5282-48A2-95A0-3A0934E71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Особенности искривленной поверхности раздела ф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3860640"/>
            <a:ext cx="4572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Лекто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кандидат химических на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доцент кафедры Ф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Михеева Елена Вале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96E0-0B9C-4586-AD42-9FA91B0F01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167724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Капиллярным поднятием жидкостей объясняется ряд известных процессов и явл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днятие грунтовых вод в почвах обеспечивает существование растительного покрова Зем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питка бумаги и тканей – поднятие жидкости в пор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одонепроницаемость тканей – ткани пропитывают веществами, которые вода не смачивает – капиллярная депресс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итание растений (деревьев) – подъем воды из почвы по волокнам древес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оцессы кровообращения в кровеносных сосудах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976-FCFD-427A-BD93-FAE9BF308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1134360"/>
            <a:ext cx="835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Влияние кривизны поверхности на давление насыщенного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ривизна поверхности жидкости оказывает влияние на давление насыщенного пара над этой жидкостью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256360" cy="1339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08000" y="4365720"/>
                <a:ext cx="1511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643280" y="4365720"/>
                <a:ext cx="540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372360" y="4292640"/>
                <a:ext cx="1296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298-125C-441F-958E-E272C8A5F6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258840"/>
            <a:ext cx="849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Уравнения Томсона – Кельвина (выв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ращение энергии Гиббса в результате искривления поверх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276720" y="1413000"/>
                <a:ext cx="2519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24000" y="1696680"/>
            <a:ext cx="84960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индивидуального вещества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мольный объем жидк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7960" y="2909520"/>
            <a:ext cx="3882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   или в интегральной форме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916360" y="3500280"/>
                <a:ext cx="3456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p</m:t>
                    </m:r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79640" y="2924280"/>
                <a:ext cx="1655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85440" y="4220280"/>
            <a:ext cx="698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дставим в уравнение (1) уравнение Лапласа, получи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5640" y="4724280"/>
                <a:ext cx="32400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5640" y="5734080"/>
                <a:ext cx="32400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500720" y="4941000"/>
            <a:ext cx="396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частиц сферической 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4320" y="587592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частиц цилиндрической фор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2D5-66E8-4F07-B2DB-72B3A8ABC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5280" y="4258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другой стороны в процессе испарения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лучае искривленной поверх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981000"/>
                <a:ext cx="51847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dp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99960" y="2622240"/>
            <a:ext cx="3724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ли в интегральной форме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11640" y="2205000"/>
                <a:ext cx="396072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250920" y="32835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равняем уравнение (4) к уравнению (2), для сферической поверхности получи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26920" y="4076640"/>
                <a:ext cx="2448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64000" y="4005360"/>
                <a:ext cx="20163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276720" y="5013360"/>
                <a:ext cx="20160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num/>
                              <m:den/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F99-15D2-46B4-9F4D-AA05DB60C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3800" y="691200"/>
            <a:ext cx="396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сферической поверх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59280" y="1268280"/>
                <a:ext cx="2881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15600" y="2635920"/>
            <a:ext cx="595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налогично, для цилиндрической поверхно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87640" y="3429000"/>
                <a:ext cx="30258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f>
                          <m:num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476360" y="49788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равнения Томсона – Кель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FFC-265E-4ED6-9886-8C8A88A142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288360"/>
            <a:ext cx="878544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Капиллярная конденс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отрицательной кривизне (вогнутая поверхность), давление насыщенного пара будет меньше чем над плоск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уменьшением радиуса кривиз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давление насыщенного пара будет уменьшать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чем уже капилляр, тем меньше давление насыщенного па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екупер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звращение газообразных продуктов производства, потерянных в технологическом цикле, вновь в производство: на тонкопористых сорбентах газообразные продукты конденсируются при значительно более низких давлениях, чем на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76360" y="765000"/>
                <a:ext cx="24480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364000" y="765000"/>
                <a:ext cx="2376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059280" y="3141720"/>
                <a:ext cx="1728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/>
                          </m:sSub>
                          <m:r>
                            <m:t xml:space="preserve">↓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732720" y="2060640"/>
                <a:ext cx="12952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4B5-25B5-4FCD-8F07-8548418A80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550440"/>
            <a:ext cx="878544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зотермическая пере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ложительной кривизне (выпуклая поверхность) давление насыщенного пара будет больше, чем над плоской поверхность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уменьшением радиуса кривизны давление насыщенного пара над выпуклой поверхностью будет увеличивать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вление насыщенного пара над мелкими каплями жидкости будет всегда выше, чем над крупны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изотермической перегонки является причиной выпадения атмосферных осадков (дождя); образования сталактитов и сталагмитов, образование вторичных рудных месторо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58920" y="1125360"/>
                <a:ext cx="2305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35640" y="1052640"/>
                <a:ext cx="2087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8000" y="3860640"/>
                <a:ext cx="1729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↓</m:t>
                    </m:r>
                    <m:r>
                      <m:t xml:space="preserve">,</m:t>
                    </m:r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/>
                          </m:sSub>
                          <m:r>
                            <m:t xml:space="preserve">↑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492360" y="2852640"/>
                <a:ext cx="1441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/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1B7-9D9E-4A0A-8F0D-12E1EA2C6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647640"/>
            <a:ext cx="878544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</a:rPr>
              <a:t>Влияние дисперсности (кривизны поверхности) на различные физико-химическ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ff"/>
                </a:solidFill>
                <a:latin typeface="Times New Roman"/>
              </a:rPr>
              <a:t>1. Влияние дисперсности на реакционную способность веще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кционная способность вещества определяется изменением энергии Гиббса. Приращение энергии Гиббса в результате изменения дисперсности системы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д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=со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пиш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в интеграль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ферической выпуклой поверх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казывает, на сколько изменилась энергия Гиббса в результате раздробленности дисперсной фаз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ицы с искривленной поверхностью приобретают дополнительную свободную энергию и обладают повышенной реакционной способностью, что оказывает большое влияние на интенсификацию различных процессов, в том числе и технологиче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58920" y="2781360"/>
                <a:ext cx="1440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84720" y="2781360"/>
                <a:ext cx="1513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Δ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940360" y="3284640"/>
                <a:ext cx="100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619280" y="3789360"/>
                <a:ext cx="5616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Δp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V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27D-ACE1-442A-A48C-BA1995F33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160920"/>
            <a:ext cx="8642160" cy="67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2. Связь дисперсности с константой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дисперсности вещества влияет на равновесие химической реакции. Изменение энергии Гиббса в результате искривления поверхности связано с константой равновесия химической реакции уравн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       - приращение энергии Гиббса, обусловленное дисперсностью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онстанты равновесия реакции с учетом недиспергированных и диспергирован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е дисперсности конечных или исходных веществ приводит к сдвигу равновесия химической реакции и к изменению константы равновесия, т.е. дисперсность влияет на равновесие подобно влиянию температуры и д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лото не взаимодействует с соляной кислотой, а коллоидное золото в ней раствор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бро, практически не растворимое в обычном состоянии, проявляет бактерицидное действие в высокодисперсном состоянии (препараты колларгол, протарго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33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кодисперсный порошок железа способен к самовозгоранию, сахарная, мучная и цементная пыль легко воспламе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419640" y="1484280"/>
                <a:ext cx="2304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num>
                      <m:den>
                        <m:r>
                          <m:t xml:space="preserve">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403280" y="2060640"/>
                <a:ext cx="576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7F2-5C57-4E09-ABEA-AF288AFAA7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84600"/>
            <a:ext cx="8713800" cy="66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ff"/>
                </a:solidFill>
                <a:latin typeface="Times New Roman"/>
              </a:rPr>
              <a:t>3. Влияние дисперсности на температуру фазовых перех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изменением дисперсности меняется температура фазового переход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остоянном давлении изменение энергии Гиббса, связанное с изменением дисперсности в соответствии с объединенными уравнениями первого и второго начал термодинамики запиш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 в интегральном виде: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емпература фазового перехода вещества в диспергированном состоянии,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температура фазового перехода вещества в макро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энергии Гиббса через уравнение Лапласа для сферической поверхности запиш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авняем уравнения (1) и (2)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торого начала термодинам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зим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16000" y="1989000"/>
                <a:ext cx="1633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56360" y="1989000"/>
                <a:ext cx="15843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S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2492280"/>
                <a:ext cx="1511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227640" y="5229360"/>
                <a:ext cx="1468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227640" y="4437000"/>
                <a:ext cx="17208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S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54440" y="3789360"/>
                <a:ext cx="2725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G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m>
                      <m:mr>
                        <m:e/>
                        <m:e/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789360" y="5877000"/>
                <a:ext cx="1851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Δ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Н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D45-A3AA-437B-A131-0DE9EEEDAB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286200"/>
            <a:ext cx="8497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ажное качество дисперсных систем, связанное с раздробленностью –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резкое увеличение кривизны поверхност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2881080" cy="278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3949200"/>
            <a:ext cx="8280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зультате искривления  поверхности возникает избыточное внутримолекулярное давление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разность давлений внутри искривленной и плоской поверхности конденсированной фазы (капли жидкости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03640" y="4797360"/>
                <a:ext cx="2448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f>
                          <m:num/>
                          <m:den/>
                        </m:f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278-8397-4115-AF47-09A59EC65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50920" y="981000"/>
            <a:ext cx="864216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ним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температуры при фазовом переходе при диспергир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уравнения следует, что при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ф.п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лавление и испарение), с уменьшением размера частиц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температуры фазового перехода вещества в диспергируемом и макросостоянии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еличив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температуры фазового перехода с изменением дисперсности тем больше, чем выше температура фазового перехода, больше поверхностное натяжение и меньше теплота фазового перехода. Поэтому для тугоплавких веществ наблюдается более сильный эффект понижения температуры плавления с постом диспер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979640" y="981000"/>
                <a:ext cx="2089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508720" y="907920"/>
                <a:ext cx="1728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16360" y="1413000"/>
                <a:ext cx="3024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Т</m:t>
                    </m:r>
                    <m:r>
                      <m:t xml:space="preserve">=</m:t>
                    </m:r>
                    <m:r>
                      <m:t xml:space="preserve">Т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ф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97160" y="4365720"/>
                <a:ext cx="4119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r</m:t>
                    </m:r>
                    <m:m>
                      <m:mr>
                        <m:e/>
                        <m:e>
                          <m:r>
                            <m:t xml:space="preserve">(</m:t>
                          </m:r>
                          <m:r>
                            <m:t xml:space="preserve">↑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ΔT</m:t>
                          </m:r>
                          <m:r>
                            <m:t xml:space="preserve">↑</m:t>
                          </m:r>
                          <m:m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д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51C-21C9-4A45-9637-6083267080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3322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лияние степени дисперсности на температуру плавления метал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981000"/>
          <a:ext cx="8229600" cy="3116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ребра кубик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н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плавления, 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испергируемое вещ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324000" y="4472640"/>
            <a:ext cx="849600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увеличении дисперсности вещества температура его плавления уменьшается, причем очень ощутимо. Это явление используется при получении стекол, керамики, в порошковой металлургии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7F5-F96D-457D-9532-F79F9328A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36680" y="259200"/>
            <a:ext cx="70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Методы определения поверхностного натяжения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34520" y="691200"/>
            <a:ext cx="57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тоды бывают: динамические и стати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1340280"/>
            <a:ext cx="87138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67ff"/>
                </a:solidFill>
                <a:latin typeface="Times New Roman"/>
              </a:rPr>
              <a:t>Метод наибольшего давления пузырька газа (метод Ребиндер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основан на измерении избыточного внутримолекулярного давления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озникающего в жидкости в момент проскока газового пузырька. По уравнению Лаплас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=2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ения проводят относительным способом: находят наибольшее давление пузырька газа в стандартной жидкости и в исследуемом раствор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42920" y="3645000"/>
                <a:ext cx="22320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Δ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724360" y="3716280"/>
                <a:ext cx="16560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Δ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11280" y="5013360"/>
                <a:ext cx="4105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FD-DB23-441C-A91E-BA9B5BBA3C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9280" y="474840"/>
            <a:ext cx="8713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67ff"/>
                </a:solidFill>
                <a:latin typeface="Times New Roman"/>
              </a:rPr>
              <a:t>Сталагмометрический метод (метод счета кап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ытекании жидкости из капилляра сталагмометра вес образующейся капли в момент отрыва капли равен силе, стремящейся удержать капл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419640" y="1628640"/>
                <a:ext cx="172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ρg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60640" y="2468160"/>
            <a:ext cx="617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верхностное натяжение жидкости будет равно: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588000" y="2276640"/>
                <a:ext cx="2087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27960" y="3211920"/>
            <a:ext cx="357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каждого сталагмоме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572000" y="3068640"/>
                <a:ext cx="1800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250920" y="40993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тобы исключить характеристики сталагмометра, подсчитывают число капель исследуемой  и стандартной жидкостей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32000" y="4941720"/>
                <a:ext cx="2737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FF1-95DF-48CE-ACDB-6845AC89D6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317520"/>
            <a:ext cx="8642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67ff"/>
                </a:solidFill>
                <a:latin typeface="Times New Roman"/>
              </a:rPr>
              <a:t>Статические 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67ff"/>
                </a:solidFill>
                <a:latin typeface="Times New Roman"/>
              </a:rPr>
              <a:t>Метод поднятия жидкости в капилля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снове лежит уравнение Жюре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796000" y="1197000"/>
                <a:ext cx="1643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50920" y="2118600"/>
            <a:ext cx="856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практике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 известен. В этом случае принимают, что жидкость полностью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ачивает стенки капилляра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°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 θ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 1), тогда уравнение Жюрена запишется в ви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676680" y="3357720"/>
                <a:ext cx="12142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474480" y="4575600"/>
            <a:ext cx="713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сюда поверхностное натяжение жидкости будет равн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564000" y="5229360"/>
                <a:ext cx="165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30C-7F15-4F95-B748-CFE03980B3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70280"/>
            <a:ext cx="864072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Уравнение Лапласа (выв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зультате искривления поверхности совершается работа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которая приводит к изменению объема тела на велич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00360" y="1700280"/>
                <a:ext cx="3311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dV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26920" y="2276640"/>
                <a:ext cx="78202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dp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24000" y="3185280"/>
            <a:ext cx="8351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стоянных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, р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в условии равновесия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19640" y="3789360"/>
                <a:ext cx="2736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24000" y="46519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Тог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4508640"/>
                <a:ext cx="1944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047960" y="5636880"/>
            <a:ext cx="4490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де:             - кривизна поверхности.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63640" y="5445000"/>
                <a:ext cx="6397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A6B-D99F-4BA2-953B-66FB64E8B3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2480" y="1110960"/>
            <a:ext cx="32302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сферических частиц: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1560" y="2766600"/>
            <a:ext cx="3666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частиц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цилиндриче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фор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960" y="4507560"/>
            <a:ext cx="33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Для частиц произво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форм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72000" y="836640"/>
                <a:ext cx="13669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3280" y="2637000"/>
                <a:ext cx="12956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51280" y="4437000"/>
                <a:ext cx="2160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77080" y="836640"/>
                <a:ext cx="1798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948360" y="2637000"/>
                <a:ext cx="1656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443640" y="4437000"/>
                <a:ext cx="248436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р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372360" y="5618160"/>
            <a:ext cx="2428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уравнения Лапласа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5F6-4BF5-4BF2-8CD8-D12023BFA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9600" y="332280"/>
            <a:ext cx="850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ривизна поверхности может быть положительной и отрицатель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376360" cy="22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448000" cy="2108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1022760"/>
            <a:ext cx="5689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тр окружности находится внутри тела (выпуклая поверхность)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/d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gt; 0, тогд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полнительное избыточное давление увеличивает внутреннее давление жидкости (сжимает 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371628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тр окружности находится вне тела (вогнутая поверхность)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/dV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0, тогд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полнительное избыточное давление уменьшает внутреннее давление жидкости (растягивает е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2708280"/>
                <a:ext cx="1728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/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292720" y="5516640"/>
                <a:ext cx="18716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241-6152-476A-8F12-B7D87AC4D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11280" y="548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апиллярное поднятие и опускание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564000" cy="388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64000" y="2634480"/>
            <a:ext cx="52560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смачивании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90°) образуется вогнутый мениск, жидкость в капилляре поднима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дкость поднимается тем выше, чем меньше радиус капилляр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пиллярное поднятие жидк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19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огружении капилляра в какую-либо жидкость, ее уровень в капилляре 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4277160" y="3682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88E-ED2F-4B56-83EE-8002D7939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5942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708360" y="2205000"/>
            <a:ext cx="51847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смачивание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90°), образуется выпуклый мениск, уровень жидкости в капилляре опуска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идкость опускается тем ниже, чем меньше радиус капилляра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пиллярная депрессия жидк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251-7C87-408C-B355-4CEDF16DF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403560"/>
            <a:ext cx="856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равновесии избыточное лапласовское давление равно гидростатическому давлению столба жидкости высот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55640" y="1557360"/>
                <a:ext cx="2448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24640" y="1628640"/>
                <a:ext cx="1133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063600" y="1901520"/>
            <a:ext cx="14976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    отсюд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00000" y="2852640"/>
                <a:ext cx="12956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95280" y="40996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ысоту капиллярного поднятия жидкости можно вычисли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30320" y="4941720"/>
                <a:ext cx="204012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718160" y="5299560"/>
            <a:ext cx="251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равнение Жюр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29232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диус кривизны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радиус капилля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0CD-3DB2-4ACE-A9CB-878BD8111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-15522840"/>
            <a:ext cx="85690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нализ уравнения Жю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Смачивание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gt; 0,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gt; 0, уровень жидкости в капилляре поднимается. Чем меньш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ем больше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высота подня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Несмачивание: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lt; 0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 0, уровень жидкости в капилляре будет опускать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5013360"/>
          <a:ext cx="7487640" cy="1368360"/>
        </p:xfrm>
        <a:graphic>
          <a:graphicData uri="http://schemas.openxmlformats.org/drawingml/2006/table">
            <a:tbl>
              <a:tblPr/>
              <a:tblGrid>
                <a:gridCol w="1497600"/>
                <a:gridCol w="1497600"/>
                <a:gridCol w="1497240"/>
                <a:gridCol w="1497600"/>
                <a:gridCol w="149760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м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 м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н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с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к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492360" y="1052640"/>
                <a:ext cx="1943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4E8-4474-47D1-B977-46D32D6CD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04:43:42Z</dcterms:created>
  <dc:creator>Admin</dc:creator>
  <dc:description/>
  <dc:language>en-US</dc:language>
  <cp:lastModifiedBy>Администратор</cp:lastModifiedBy>
  <dcterms:modified xsi:type="dcterms:W3CDTF">2011-06-22T12:47:41Z</dcterms:modified>
  <cp:revision>96</cp:revision>
  <dc:subject/>
  <dc:title>Слайд 1</dc:title>
</cp:coreProperties>
</file>