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45E5-83EC-4B51-8C14-B62B5892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53E8-5044-41C3-8C5B-334CDE1A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078E-6062-428E-998E-269AA34F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8A10-CFB7-4328-976B-92B2B4644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41BE-922D-4AAD-9513-EB9A4357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7B99-4BAF-4F0B-A965-95584C26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DCE8-AACE-41AF-9EC5-5D555DCA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B08F-3750-4A2B-8370-5E8BD426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C2D2-8434-40B3-9A83-0AD44B11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9A8C-7110-4780-A219-A809CD9E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238B-CD0C-4BFF-B6AC-2C7648E3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6F85-E185-472C-B0DE-78E70941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A35C-3E7E-4C2D-8A14-3A2E62D2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BE40-BC2C-4BB3-9F23-9EB2B48F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924A-ED1B-435C-9003-83EBF5C8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B7BD-3155-4EC6-ABCE-BA5DC917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72DF-0E22-4C30-820F-4CAE8AA9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0CB2-3371-42D0-ABBA-3A90B542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8EF0-353C-48EE-B303-CAA5BF15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6647-C921-460D-BA85-8885A374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DD76-CC53-4B8A-ABC7-86427DF6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72DE-3A17-4670-AE44-6B3EA9B7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3DAF-4225-4BF0-A49D-27C06C78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09BD-68FA-4C78-8BF6-DAC1D049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C87E-A25D-4B66-A26E-31FA73A3874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9787-98B0-417F-A0CF-565C0BC268E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0000"/>
                </a:solidFill>
                <a:latin typeface="Times New Roman"/>
              </a:rPr>
              <a:t>Поверхностные явления и дисперсные системы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"/>
          <p:cNvSpPr/>
          <p:nvPr/>
        </p:nvSpPr>
        <p:spPr>
          <a:xfrm>
            <a:off x="3639960" y="4076640"/>
            <a:ext cx="435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Лектор: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кандидат химических нау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доцент кафедры Ф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Михеева Елена Валенти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76360" y="594360"/>
            <a:ext cx="691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зменение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уд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при дроблении 1 см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00000" y="1989000"/>
          <a:ext cx="7488000" cy="3360960"/>
        </p:xfrm>
        <a:graphic>
          <a:graphicData uri="http://schemas.openxmlformats.org/drawingml/2006/table">
            <a:tbl>
              <a:tblPr/>
              <a:tblGrid>
                <a:gridCol w="2735280"/>
                <a:gridCol w="2376360"/>
                <a:gridCol w="2376360"/>
              </a:tblGrid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ребра куба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с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кубик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уд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·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1м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·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·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=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·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·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(1мк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·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·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(1н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·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26F1-00E3-428C-9CFC-2812443514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4360" y="25920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Зависимость удельной поверхности от размера час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87640" y="1125360"/>
            <a:ext cx="3333960" cy="3384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5280" y="4869000"/>
            <a:ext cx="8353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де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молекулярные системы (дробление до молекул – растворы),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– нанодисперсные (коллоидные),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среднедисперсные (микрогетерогенные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грубодисперс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2251-F027-4A24-B1E1-4549A1776E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360" y="404640"/>
            <a:ext cx="8496360" cy="62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4. Кривизна поверхно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производная площади поверхности по объ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сферических частиц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частиц цилиндрической фор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частиц неправильной формы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главные радиусы кривиз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924360" y="333360"/>
                <a:ext cx="4935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266920" y="2060640"/>
                <a:ext cx="53294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rdr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  <m:r>
                          <m:t xml:space="preserve">π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dr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627280" y="3573360"/>
                <a:ext cx="432108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h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hdr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hrd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219640" y="4653000"/>
                <a:ext cx="18003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39DC-B11C-41CC-A963-B5946FD6A1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55640" y="1199520"/>
            <a:ext cx="7993080" cy="33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р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сность частиц коллоидного золота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нимая частицы золота в виде кубиков определить, какую поверхность они могут покрыть, если их плотно уложить в один слой. Масса коллоидных частиц золота 1 г. Плотность золота 19,6·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щая поверхность частиц коллоидного золота равн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уд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дельная поверхность кубических части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уд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6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ъем золота равен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619280" y="5013360"/>
                <a:ext cx="575928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sSup>
                          <m:e>
                            <m:r>
                              <m:t xml:space="preserve">м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,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м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sSup>
                      <m:e>
                        <m:r>
                          <m:t xml:space="preserve">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-4632120" y="440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7B5A-F78C-4E2E-91FB-C170247015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11280" y="2081160"/>
            <a:ext cx="8208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быточная поверхностная энергия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0.000.000 с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с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= 6000 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с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при длине ребра частицы 1 н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540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увеличении дисперсности резко увеличивается удельная поверхность дисперсной фазы, то есть большая часть всех молекул или атомов, составляющих вещество, находится на поверхности раздела фаз. Поверхностные молекулы находятся в несимметричном силовом поле, что приводит к возникновению избыточной поверхностной энергии, которая обуславливает все своеобразие высокодисперсных сист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41508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Специфические особен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коллоидных сис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851280" y="2492280"/>
                <a:ext cx="18003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70E4-9EA8-41D6-BC90-D79F69AE2C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9640" y="792000"/>
            <a:ext cx="8280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Термодинамическая неустойч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-за высокого знач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быточной поверхностной энергии дисперсные системы термодинамически неустойчив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Невоспроизводимость (индивидуаль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ерхность реальной частицы твердого тела состоит из выступов, впадин, участков различной кривизны с различными значениями поверхностной энерги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Поэтому две системы одного и того же состава с одинаковой удельной поверхностью могут быть энергетически неравноцен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Структуро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юбая система стремится к образованию ориентированных структур, чтобы быть термодинамической устойчи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140360" y="2637000"/>
            <a:ext cx="923760" cy="55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802F-EC5E-408B-9340-566D3ECA91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11280" y="44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Классификации дисперсных сис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1612080"/>
            <a:ext cx="828180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3600" indent="354240" algn="ctr">
              <a:lnSpc>
                <a:spcPct val="100000"/>
              </a:lnSpc>
              <a:buClr>
                <a:srgbClr val="666600"/>
              </a:buClr>
              <a:buFont typeface="Times New Roman"/>
              <a:buAutoNum type="arabicPeriod"/>
              <a:tabLst>
                <a:tab algn="l" pos="177840"/>
                <a:tab algn="l" pos="9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00"/>
                </a:solidFill>
                <a:latin typeface="Times New Roman"/>
              </a:rPr>
              <a:t>Классификация по размерам части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3600" indent="354240" algn="ctr">
              <a:lnSpc>
                <a:spcPct val="100000"/>
              </a:lnSpc>
              <a:tabLst>
                <a:tab algn="l" pos="0"/>
                <a:tab algn="l" pos="177840"/>
                <a:tab algn="l" pos="9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00"/>
                </a:solidFill>
                <a:latin typeface="Times New Roman"/>
              </a:rPr>
              <a:t>дисперсной ф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3600" indent="354240" algn="ctr">
              <a:lnSpc>
                <a:spcPct val="100000"/>
              </a:lnSpc>
              <a:tabLst>
                <a:tab algn="l" pos="0"/>
                <a:tab algn="l" pos="177840"/>
                <a:tab algn="l" pos="9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3600" indent="354240" algn="just">
              <a:lnSpc>
                <a:spcPct val="100000"/>
              </a:lnSpc>
              <a:buClr>
                <a:srgbClr val="666600"/>
              </a:buClr>
              <a:buSzPct val="150000"/>
              <a:buFont typeface="Times New Roman"/>
              <a:buChar char="•"/>
              <a:tabLst>
                <a:tab algn="l" pos="177840"/>
                <a:tab algn="l" pos="9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убодисперсные ГД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&gt;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) – частицы видны в обычный микроскоп, оседают под действием силы тяжести, не проходят через бумажные фильт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 indent="354240" algn="just">
              <a:lnSpc>
                <a:spcPct val="100000"/>
              </a:lnSpc>
              <a:buClr>
                <a:srgbClr val="666600"/>
              </a:buClr>
              <a:buSzPct val="150000"/>
              <a:buFont typeface="Times New Roman"/>
              <a:buChar char="•"/>
              <a:tabLst>
                <a:tab algn="l" pos="177840"/>
                <a:tab algn="l" pos="9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недисперсные (микрогетерогенные)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 indent="354240" algn="just">
              <a:lnSpc>
                <a:spcPct val="100000"/>
              </a:lnSpc>
              <a:buClr>
                <a:srgbClr val="666600"/>
              </a:buClr>
              <a:buSzPct val="150000"/>
              <a:buFont typeface="Times New Roman"/>
              <a:buChar char="•"/>
              <a:tabLst>
                <a:tab algn="l" pos="177840"/>
                <a:tab algn="l" pos="9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сокодисперсные ВД (коллоидные)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≈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), частицы имеют наноразме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 indent="354240" algn="just">
              <a:lnSpc>
                <a:spcPct val="100000"/>
              </a:lnSpc>
              <a:tabLst>
                <a:tab algn="l" pos="0"/>
                <a:tab algn="l" pos="177840"/>
                <a:tab algn="l" pos="9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 indent="354240" algn="just">
              <a:lnSpc>
                <a:spcPct val="100000"/>
              </a:lnSpc>
              <a:tabLst>
                <a:tab algn="l" pos="0"/>
                <a:tab algn="l" pos="177840"/>
                <a:tab algn="l" pos="9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зависимости от размеров частиц дисперсной фазы, системы бываю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онодисперсн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состоят из частиц одного размера и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лидисперсн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состоящие из частиц разных разме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7775-2F21-461C-8840-367976A288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11280" y="47628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сперсный состав часто выражают в виде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дифференциальных функций распределен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частиц по размерам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504576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сперсная система может содержать в своем составе частицы разных размеров, то есть может быть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лидисперсн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альные системы, как правило, полидисперс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71640" y="2421000"/>
            <a:ext cx="3259080" cy="244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1080" y="410904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859280" y="2205000"/>
            <a:ext cx="3168720" cy="25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F1B1-5E8C-4350-B9A1-7068CFE425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9640" y="2415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6600"/>
                </a:solidFill>
                <a:latin typeface="Times New Roman"/>
              </a:rPr>
              <a:t>2.  Классификация по агрегатному состоянию дисперсной фазы (ДФ) и дисперсионной среды (Д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052640"/>
          <a:ext cx="8713800" cy="5614920"/>
        </p:xfrm>
        <a:graphic>
          <a:graphicData uri="http://schemas.openxmlformats.org/drawingml/2006/table">
            <a:tbl>
              <a:tblPr/>
              <a:tblGrid>
                <a:gridCol w="936360"/>
                <a:gridCol w="1513080"/>
                <a:gridCol w="1440000"/>
                <a:gridCol w="4824360"/>
              </a:tblGrid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зна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ерд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зообраз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/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эрозоли  (пыль, дым, смог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/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оли  (золи металлов в воде, взвеси в природных водах – ВД), суспензии - Г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ерд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/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ердые коллоидные растворы (бетон, сплавы, цветные стекла, минералы – самоцветы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зообраз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/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эрозоли  (туман, облак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/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мульсии  (молоко, сырая нефть, крем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ерд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/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дкость в пористых телах  (адсорбенты, почвы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зообраз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зообраз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/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ы с флуктуациями плотности  (атмосфер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/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зовые эмульсии, пен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ерд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/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истые и капиллярные тела (адсорбенты, катализаторы, пемза, активированный уголь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50B-0906-46D9-B28C-94C1F3C3F5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11280" y="-1440"/>
            <a:ext cx="8208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6600"/>
                </a:solidFill>
                <a:latin typeface="Times New Roman"/>
              </a:rPr>
              <a:t>3. Классификация по силе межфазного взаимодействия дисперсной фазы и дисперсионной сред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применима только для систем с жидкой дисперсионной средой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95280" y="1450800"/>
          <a:ext cx="8507520" cy="4660920"/>
        </p:xfrm>
        <a:graphic>
          <a:graphicData uri="http://schemas.openxmlformats.org/drawingml/2006/table">
            <a:tbl>
              <a:tblPr/>
              <a:tblGrid>
                <a:gridCol w="4254480"/>
                <a:gridCol w="4253040"/>
              </a:tblGrid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офи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офоб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льное взаимодействием между ДФ и Д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бое межфазное взаимодейст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модинамически устойчивые (равновесные)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ΔG ≤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модинамически не устойчивы (неравновесные)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ΔG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&gt;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жно получить самопроизвольным диспергирова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получения нужно затратить рабо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ы: растворы желатина, водорастворимых белков в воде, каучука в бензоле, мыло в воде, коллоидные ПАВы, критические эмульсии и т.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ы: золи Ме в воде, частицы м.р.с и оксидов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J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в воде, капли воды в органической жидкости (нефти)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86A9-34CB-4DB7-B2F9-2D796E83E2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Литератур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ролов Ю.Г. Курс коллоидной химии. Поверхностные явления и дисперсные системы. М.: Химия, 1988. - 464 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ридрихсберг  Д.А. Курс коллоидной химии. СПб.: Химия, 1995.  - 400 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юцкий С.С. Курс коллоидной химии. М.: Химия, 1976. – 512 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имон А.Д., Лещенко Н.Ф. Коллоидная химия. М.: Химия, 1995 – 336 с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Щукин Е.Д. Коллоидная химия. М.: Высш.шк., 2004. – 445 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хеева Е.В., Пикула Н.П., Карбаинова С.Н. Поверхностные явления и дисперсные системы. Коллоидная химия. Сборник примеров и задач. – Томск: Изд-во ТПУ, 2008. – 126 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0743-ECF3-4C3D-A177-64CE4F3AA3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11280" y="1585080"/>
            <a:ext cx="799308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6600"/>
                </a:solidFill>
                <a:latin typeface="Times New Roman"/>
              </a:rPr>
              <a:t>4. Классификация по подвижности частиц Д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6600"/>
                </a:solidFill>
                <a:latin typeface="Times New Roman"/>
              </a:rPr>
              <a:t>(по структур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вободнодисперсны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частицы ДФ не связаны между собой, находятся на больших расстояниях друг от друга и могут свободно перемещаться относительно друг друга (суспензии, эмульсии, зол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вязнодисперсн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частицы ДФ связаны друг с другом за счет межмолекулярных сил, образуя в ДС пространственные сетки или каркасы (капиллярно–пористые тела, мембраны, гели, пасты, концентрированные эмульсии и пены, порош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667C-FB8A-4024-8943-4C812BFAD5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11280" y="1402920"/>
            <a:ext cx="813744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6600"/>
                </a:solidFill>
                <a:latin typeface="Times New Roman"/>
              </a:rPr>
              <a:t>5. Классификация по форме частиц Д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6600"/>
                </a:solidFill>
                <a:latin typeface="Times New Roman"/>
              </a:rPr>
              <a:t>(по топографическому призна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Корпускулярны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частицы ДФ имеют коллоидные размеры по всем трем измер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Фибриллярные (волокнистые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частицы ДФ имеют коллоидные размеры по двум измерениям (нити, волокна, поры, капилляр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Ламинарные (пленочные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частицы ДФ имеют коллоидные размеры по одному измерению (мембраны, плен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CEA4-2157-473E-BD5A-CD58156B71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1463760"/>
            <a:ext cx="8351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лан изучения дисципли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«Поверхностные явления и дисперсные систем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Дисперсные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Термодинамика поверхностных яв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Адсорб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Электрические свойства дисперсных систем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Устойчивость и коагуляция дисперсных сист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Оптические свойства дисперсных систем (рассеяние света, абсорбция света, окраска коллоидных систем, оптические методы исследования дисперсных систем) – задача §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 Молекулярно-кинетические свойства дисперсных систем (броуновское движение, диффузия, осмос, седиментация) – задача §1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71A-94E7-4356-B3DC-B727F04BC5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02320" y="619560"/>
            <a:ext cx="51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Особенности коллоидных раств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596600"/>
            <a:ext cx="8496000" cy="41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палесценци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светорассеяние)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блюдается «конус Тиндаля»  - светящийся конус при пропускании пучка света через коллоидный раствор. Светорассеяние наблюдается когда λ &g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алая скорость диффуз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Так как коэффициент диффузии обратно пропорционален размеру частицы, то в коллоидных системах частицы имеют большие размеры по сравнению с размерами молекул и ионов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кол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молеку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пособность к диализ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коллоидные частицы могут быть отделены от низкомолекулярных примесей (молекул, ионов) с помощью полупроницаемой мембраны.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кол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молеку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пособность к электрофорез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перемещение коллоидных частиц в электрическом поле. Следовательно, коллоидные частицы имеют электрический зар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0A38-2139-4E2A-8613-B15997B240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11280" y="1509480"/>
            <a:ext cx="7848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ллоидное состояние вещест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высокодисперсное (сильно раздробленное) состояние, в котором отдельные частицы представляют собой агрегаты, состоящие из множества молекул. Такие агрегаты из молекул называют мицел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ллоид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гетерогенные системы, содержащие вещества в высокодисперсном состоя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стинный раств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дробление вещества до молекул (атомов, ионов)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C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воде, канифоль в спир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ллоидный раств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дробление до микрочастиц (агрегатов из молекул)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пирте, канифоль в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CC0A-E643-4A43-B372-36B22AA92E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249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Раздел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. Дисперсные систем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9002-BF3A-40A8-A536-26FC340563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76920" y="333000"/>
            <a:ext cx="64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ризнаки объектов коллоидной хим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Песков 1934 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661760"/>
            <a:ext cx="84960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ля дисперсных систем характерны два основных призна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Гетерогенность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ногофазност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дисперсная система состоит из дисперсной фазы (ДФ) и дисперсионной среды (ДС)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исперсная фаз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фаза дисперсной системы, раздробленная до мельчайших частиц и находящаяся в непрерывной дисперсионной сре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85760" algn="just">
              <a:lnSpc>
                <a:spcPct val="100000"/>
              </a:lnSpc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качественная характеристика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– наличие межфазной поверхности или поверхностного сло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85760" algn="just">
              <a:lnSpc>
                <a:spcPct val="100000"/>
              </a:lnSpc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количественная характеристика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– величина поверхностного натяжения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σ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границе раздела фа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9009-8DEE-4E68-A0DC-86441A498F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124920"/>
            <a:ext cx="828036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исперсность (раздробленность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пределяется размерами тела в трех измер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ы дисперсно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перечный размер частиц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м, см (для сферических частиц – диаметр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для частиц, имеющих форму куба – длина ребра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сност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еличина, обратная поперечному размеру час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дельная поверхност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у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ежфазная поверхность, приходящаяся на единицу объема дисперсной фа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дисперсной фаз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асто не известен, вместо него используют массу дисперсной фаз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325600" y="3860640"/>
                <a:ext cx="506880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д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ф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д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ф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;</m:t>
                    </m:r>
                    <m:m>
                      <m:mr>
                        <m:e/>
                        <m:e/>
                        <m:e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уд</m:t>
                              </m:r>
                            </m:sub>
                          </m:sSub>
                          <m:r>
                            <m:t xml:space="preserve">]</m:t>
                          </m:r>
                        </m:e>
                      </m:mr>
                    </m:m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м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м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511360" y="5516640"/>
                <a:ext cx="419436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д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ф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ф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m>
                      <m:mr>
                        <m:e/>
                        <m:e/>
                        <m:e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уд</m:t>
                              </m:r>
                            </m:sub>
                          </m:sSub>
                          <m:r>
                            <m:t xml:space="preserve">]</m:t>
                          </m:r>
                        </m:e>
                      </m:mr>
                    </m:m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398680" y="2276640"/>
                <a:ext cx="427500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m>
                      <m:mr>
                        <m:e>
                          <m:m>
                            <m:mr>
                              <m:e/>
                              <m:e/>
                              <m:e/>
                            </m:mr>
                          </m:m>
                        </m:e>
                        <m:e>
                          <m:r>
                            <m:t xml:space="preserve">[</m:t>
                          </m:r>
                          <m:r>
                            <m:t xml:space="preserve">D</m:t>
                          </m:r>
                          <m:r>
                            <m:t xml:space="preserve">]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м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(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см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4EFE-9A4F-4430-BDF6-3A114CCB12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5280" y="213840"/>
            <a:ext cx="83534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дельную поверхность дисперсной системы можно вычислить, если известны размер и форма частиц.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сферических частиц: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кубических частиц: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цилиндрических частиц: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общем случае: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коэффициент, зависящий от формы част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132000" y="1700280"/>
                <a:ext cx="328644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780000" y="2852640"/>
                <a:ext cx="24224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284720" y="5229360"/>
                <a:ext cx="16318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419640" y="4221000"/>
                <a:ext cx="302400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h</m:t>
                        </m:r>
                      </m:num>
                      <m:den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5251-355C-43BC-9210-45C31F6B4F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5:32:11Z</dcterms:created>
  <dc:creator>Admin</dc:creator>
  <dc:description/>
  <dc:language>en-US</dc:language>
  <cp:lastModifiedBy>Администратор</cp:lastModifiedBy>
  <dcterms:modified xsi:type="dcterms:W3CDTF">2011-06-22T12:43:08Z</dcterms:modified>
  <cp:revision>55</cp:revision>
  <dc:subject/>
  <dc:title>Раздел I. Дисперсные системы</dc:title>
</cp:coreProperties>
</file>