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BA8-4AB1-4AE1-8530-EECE813D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FDB-166D-446C-90C4-E6BB2A2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3D2-E614-4252-8DA7-21AA22BF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976-CB01-47A3-93B5-B8453451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81A8-0627-409B-8E31-B46D7A21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B94D-06D5-4B0A-BF9F-4170CBF1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4379-2E05-4C2D-B3E4-72F7AAD2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84BA-1B37-4DE2-8F30-555A55E2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2C1F-CDE0-4DF9-B9B1-8AF74523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39EA-7420-4AAF-8DFB-DEA766D1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788A-FAFE-4A37-8037-EB5A324F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E3D-14E6-46B4-9F87-6774A2BD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63F2-3120-4F80-81D5-F6400DCE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E678-F974-4BF4-B075-77869A9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07B9-28E5-44C3-8FAC-DBB49733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DDA0-285F-4FA5-BEA8-99F89B54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BB74-3FD1-4008-A7CB-1A725D35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5CF-023A-4334-8E48-909D78E0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E6F-C4EC-4898-BB2C-25478AF1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CF5-65DB-424E-9F26-40F2EED7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4F0-8337-4476-8248-1080F12B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8C5-6801-4DAD-B7BB-CEBD7F9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C79-ED18-40DF-8A35-3F7ABFD3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4D8-3506-4186-94A8-56C1703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1AED-43C6-4D31-8058-7ECB5F62510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9D24-4C42-4915-B272-DA054305AA5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Методы получения дисперсных систем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580320"/>
            <a:ext cx="82803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онденсационные методы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денсационные методы основаны на ассоциации молекул в агрегаты из истинных растворов (гомогенных сред)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ем конденсации в зависимости от условий могут быть получены системы любой дисперсности, с частицами любого размера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и методы в основном используют для получения дисперсных систем с размерами частиц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 (высокодисперсные и ультрадисперсные), поэтому эти методы широко используют в нанотехнологиях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денсационные методы не требуют затраты внешней работы. Появление новой фазы происходит при пересыщении среды, т.е. создании концентраций, превышающих равновесные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687-8087-4746-BE77-D19F6102B8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1342440"/>
            <a:ext cx="8424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imes New Roman"/>
              </a:rPr>
              <a:t>Механизм конденсации включает стади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тадия зародышеобразования - возникновение зародышей (центров кристаллизации) в пересыщенном растворе; зародыши образуются тем легче, чем больше в растворе центров зародышеобразования (чужеродных частиц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ст зародышей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Формирование слоя стабилизатора (слоя противоионов), определяющего устойчивость полученной дисперсной системы (для дисперсных систем с жидкой дисперсионной средой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76D-541E-4679-837E-5DC311B751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1343160"/>
            <a:ext cx="82072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Правила получения дисперсных систем конденсационными методам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Чем больше степень пересыщения, тем меньше радиус зародыша, тем легче он образуется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Для получения мелких частиц необходимо, чтобы скорость образования зародышей была больше скорости их роста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сыщение можно вызвать физическим процессом или проведением химической реакции. Различают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физические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химическ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денсационные методы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1CE-BF8F-425B-9CDE-DA071B5A94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793800"/>
            <a:ext cx="84247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Times New Roman"/>
              </a:rPr>
              <a:t>Физические конденсационные мет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Метод конденсации из пар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бразование тумана в газовой фазе при понижении температуры. Применяют при производстве серной и фосфорной кислот, в ректификационных аппаратах (перегонка летучих смесей). В природе – образование тумана, облаков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Метод замены раствор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 раствор данного вещества при постоянном перемешивании приливают к жидкости, в которой это вещество практически не растворимо, возникающее при этом пересыщение приводит к образованию дисперсных частиц. Так получают гидрозоли серы, холестерина, канифоли и др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208-37A7-4DA3-9970-F59D2C7025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4000" y="192168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Химические конденсационные метод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тоды основаны на образовании новой фазы (м.р.с.) в результате протекания химических реакций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получения высокодисперсных золей концентрированный раствор одного компонента добавляют к разбавленному раствору другого компонента при постоянном перемешивании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FE1-8AC5-4580-A310-04B413E833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141840"/>
            <a:ext cx="835164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меры химических реакций, используемых для образования коллоидных сист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6699"/>
                </a:solidFill>
                <a:latin typeface="Times New Roman"/>
              </a:rPr>
              <a:t>1. Реакции восстанов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получение золе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др. металлов)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сстановление аурата калия формальдегидом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AuO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COH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COONa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результате получается золь золота, стабилизированный ауратом калия.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ение мицеллы этого золя можно представить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340000" y="3284640"/>
                <a:ext cx="4464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u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u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N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39640" y="4125240"/>
            <a:ext cx="81360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6699"/>
                </a:solidFill>
                <a:latin typeface="Times New Roman"/>
              </a:rPr>
              <a:t>2. Реакции обмен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(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тод, наиболее часто встречающийся на практике).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учение золя иодида серебра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J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(изб.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gJ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↓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NO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ение мицеллы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95640" y="5877000"/>
                <a:ext cx="4392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gJ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9E1-0AF2-423C-AD52-1D6E4F1F85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259920"/>
            <a:ext cx="82072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6699"/>
                </a:solidFill>
                <a:latin typeface="Times New Roman"/>
              </a:rPr>
              <a:t>3. Реакции окисления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ование золя серы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р-р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= 2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ение мицеллы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27280" y="1773360"/>
                <a:ext cx="424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S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50920" y="3260160"/>
            <a:ext cx="86421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4. </a:t>
            </a:r>
            <a:r>
              <a:rPr b="1" lang="ru-RU" sz="2200" spc="-1" strike="noStrike">
                <a:solidFill>
                  <a:srgbClr val="006699"/>
                </a:solidFill>
                <a:latin typeface="Times New Roman"/>
              </a:rPr>
              <a:t>Реакции гидролиза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широко применяются для получения золей гидроксидов металлов)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учение золя гидроксида железа.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↓ + 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оение мицеллы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76360" y="5084640"/>
                <a:ext cx="5904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m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H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Cl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66C-CF1A-4716-9A4D-51364EE5AA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192168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етод пептизаци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Пептизация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, основанный на переводе в коллоидный раствор осадков, первичные размеры которых уже имеют размеры высокодисперсных систем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метода: свежевыпавший рыхлый осадок переводят в золь путем обработки пептизаторами (растворами электролитов, ПАВов, растворителем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175-0F99-4B6F-9C70-8168860EF9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245160"/>
            <a:ext cx="8496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етоды очистки дисперсных систем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ученные золи часто содержат низкомолекулярные примеси (чужеродные электролиты), способные разрушать коллоидные системы. Полученные золи во многих случаях приходится очищать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чищают также и дисперсные системы природного происхождения (латексы, нефть, вакцины, сыворотки и т.д.)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очистки от примесей используют: диализ, электродиализ, ультрафильтрацию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иал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извлечение из золей низкомолекулярных веществ чистым растворителем с помощью полупроницаемой перегородки (мембраны), через которую не проходят коллоидные частицы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Электродиал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диализ, ускоренный применением внешнего электрического поля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льтрафильтра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лектродиализ под давлением (гемодиализ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30C-2149-49D9-8507-7762ECCBE0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568800"/>
            <a:ext cx="84247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персные системы получают с необходимым набором физических и химических свойств (состав, агрегатное состояние, размер, форма, структура, поверхностные свойства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ри получении дисперсных систем решают две важные 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дисперсных частиц нужного размера и формы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билизация дисперсных систем, т.е. сохранение размеров дисперсных частиц в течение достаточно длительного времени (особенно актуальна для наночастиц)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ы получения дисперсных систем делятся на: диспергационные, конденсационные и метод пептизации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2D9-E53C-42B6-A2FB-C550567768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4000" y="397440"/>
            <a:ext cx="8496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Диспергационные методы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ы заключаются в измельчении крупных (макроскопических) образцов данного вещества до частиц дисперсных размеров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диспергировании химический состав и агрегатное состояние вещества обычно не меняются, меняется размер частиц и их форма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пергирование происходит, как правило, не самопроизвольно, а с затратой внешней работы, расходуемой на преодоление межмолекулярных сил при дроблении вещества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пергационные методы используют в основном для получения грубодисперсных частиц – от 1 мкм и выше  - производство цемента (1 млрд. т в год), измельчении руд полезных ископаемых, получение пищевых продуктов и лекарств и т.д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F87-56E1-42CB-A07E-928C8569B8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911520"/>
            <a:ext cx="842472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, затрачиваемая на диспергирование твердого тела, складывается из работы деформирова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де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работы образования новой поверхн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н.п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            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6699"/>
                </a:solidFill>
                <a:latin typeface="Times New Roman"/>
              </a:rPr>
              <a:t>Работа деформирова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ропорциональна объему тела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де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V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006699"/>
                </a:solidFill>
                <a:latin typeface="Times New Roman"/>
              </a:rPr>
              <a:t>Работа образования новой поверх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ропорциональна приращению поверхности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н.п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ая работа, затрачиваемая на диспергирование, выражается уравнением Ребиндера:</a:t>
            </a:r>
            <a:endParaRPr b="0" lang="en-US" sz="2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= 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де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W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н.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kV+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σ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F24-0AD0-40D9-8D3F-E47B743B7A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1371960"/>
            <a:ext cx="835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дроблении материалы разрушаются по местам прочностных дефектов (трещин). Поэтому, при измельчении прочность частиц возрастает, что используется для получения более прочных материалов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уть к прочности материала лежит через его разрушение». (П.А.Ребиндер)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диспергирования твердых т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ют механические (дробление, истирание и т.п.), электрические (распыление в электрическом поле) методы, взрывы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лабораторных условиях диспергирование проводят в шаровых и вибрационных мельница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6FD-AB10-43D3-A46C-FCE9A079AD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617400"/>
            <a:ext cx="84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легчения диспергирования твердых тел используют </a:t>
            </a: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понизители тверд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астворы электролитов, ПАВы, и др.) – вещества, повышающие эффективность диспергирования (эффект П.А.Ребиндера)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изители твердости обычно составляют 0,1 % от общей массы измельчаемых веществ и при этом снижают энергозатраты на получение дисперсных систем более чем в два раза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700360" y="4365720"/>
            <a:ext cx="3887640" cy="18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33C-29D8-4C95-889E-2F45E16605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90792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уменьшения твердости заключается в том, что добавляемое вещество (понизитель твердости) адсорбируется в местах дефектов кристаллической решетки твердого тела, что приводит к экранированию сил сцепления, действующими между противоположными поверхностями щели (при адсорбции электролитов возникают силы электростатического отталкивания между одноименно заряженными ионами, ПАВы понижают поверхностное натяжение на границе раздела твердое тело – газ, что облегчает деформирование твердого тела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авки помогают не только разрушить материал, но и стабилизируют систему в дисперсном состоянии, т.к., адсорбируясь на поверхности частиц, мешают их обратному слипанию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45F-1548-497A-9DA2-B38B70D338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6404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диспергирования жидкосте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ют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тряхивание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е перемешивание с кавитационными взрывами,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действие ультразвука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ыление при течении жидкости через тонкие отверстия при быстром движении струи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ы диспергирования жидкостей имеют большое значение в энергетике – обеспечение эффективного сжигания жидкого топлива, в медицине и т.д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i="1" lang="ru-RU" sz="2400" spc="-1" strike="noStrike">
                <a:solidFill>
                  <a:srgbClr val="006699"/>
                </a:solidFill>
                <a:latin typeface="Times New Roman"/>
              </a:rPr>
              <a:t>диспергирования газ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ют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е смешивание потоков жидкости и газа в специальных устройствах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571680"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рботирование – прохождение газовой струи через жидкость с большой скоростью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DA5-9D69-46EA-B6E5-E2051CF5E3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793800"/>
            <a:ext cx="8496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Times New Roman"/>
              </a:rPr>
              <a:t>Значение диспергационных методов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пергационные методы занимают ведущее место в мировом производстве различных веществ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щество в дисперсном состоянии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вает удобство расфасовки, транспортировки, дозировки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ствуют увеличению скорости химических реакций,  процессов растворения, сорбции, экстракции и др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возможность получать однородные материалы при составлении смесей и материалы с более высокими прочностными свойствами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робление руды, угля, цемента, минеральных удобрений, получение пищевых продуктов (помол муки)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C2C-0643-4221-9F20-C7D7C69AD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32:42Z</dcterms:created>
  <dc:creator>Admin</dc:creator>
  <dc:description/>
  <dc:language>en-US</dc:language>
  <cp:lastModifiedBy>Администратор</cp:lastModifiedBy>
  <dcterms:modified xsi:type="dcterms:W3CDTF">2010-08-30T14:47:51Z</dcterms:modified>
  <cp:revision>24</cp:revision>
  <dc:subject/>
  <dc:title>Слайд 1</dc:title>
</cp:coreProperties>
</file>